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ytu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056B-AC07-4B1A-9862-C5D9C511B22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18F9-A60B-4DA7-928B-213012C2C59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5EDB-5063-4436-9A37-21CD5E32FAA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5C98-1EF8-476D-BC85-BBA29FDE746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4367-7826-43A5-9234-AB55F303DB2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5CF8-3572-4925-A5F4-0948D0C6B0C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393D-B690-44D6-B7D5-3BC28C4766D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807E-644F-419E-A334-9B4A0D8A428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C65B-E8E1-41D9-947F-D34CD538C0D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A88F-DC4A-4555-BFC5-C431E7445AC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1DD5-7D67-4711-9F09-09D004439CA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9009-D0FB-4963-AEED-8E43EA98E5B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FF26-E091-4187-89D0-B616F475C8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01F7-A08B-4EA4-BBCE-5480E31582B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D814-2FA2-48E6-94EA-71199564906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33CA-8E2D-4AA8-91CB-087445315F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CBBB-14CB-4BFD-B580-ED4C28D46CB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C962-39FA-40F5-94F4-2A565B5DC7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tu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p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49D2-8649-47DE-AB52-7EA962B2B26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0EEB-735A-43D9-B1E8-DBD12D4D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5642-14DF-4269-8C79-6256B9EA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5E899-F1A1-4E01-A69E-C848BA8C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DF250-11E9-4364-BF0C-AB508DD0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9495F-AAA4-47F1-88C7-7611AFB5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E82AE-B0FA-45EB-8359-A44D3FC5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B70CB-50E5-4291-9050-27FCD5FB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495B3-3B71-4DB1-A052-6BBD0CC5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D893A-CFCA-406F-840C-C8ADDEA4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86134-45A6-4088-AF85-5E083AA2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7E078-2072-40CE-A515-0633EB13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887B-E1E3-4000-B16F-378DF2E4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78E1-5025-48F6-8C5D-65B413CE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9D82-51CC-4286-8863-BD3F80CC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132B-7F15-42E8-A767-68DA55B0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17B5-A5D0-4716-AA5D-8296500A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189E-2726-4361-B712-0974A785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2DBE-24F3-4336-820F-12584183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1849-606A-48DD-B5B5-7EB0B7A9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7239-7D4D-4480-B077-264BC894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7C38-345F-4FD5-AB75-9EBDB3C0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A640-6517-4017-889E-24811BC9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A663-2265-4F5C-9A57-A0C0C496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9EE1-949F-40B8-B437-D7146959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DE8F-DE92-456A-9EE5-1C1787D1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63F6-BBFD-4400-BF45-1A5F76FA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6CD22-30CC-486B-B9B5-4CD57F5E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68BDA-CA88-4A3F-A193-B15FE2EA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3CB57-5B24-473E-B35E-EA2AF85B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1ACE3-33A1-46C2-A8C5-C33D6AA3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372F-6D49-409A-90F8-B6EED90D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0362-6CB7-4C89-B815-A60C07CA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4D27E-1E72-499B-859A-C3E50406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4D9C8-FDED-46B0-B8ED-0B18986C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4BFD-E3AA-4B05-9375-71B6C4C3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0DC5F-D33B-481A-9650-646B5866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4634-8D3B-4929-9DC3-A050B51C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075FB-627B-4BC5-9953-08EBFCBA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D8BB7-315E-48A2-91C6-295A9929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D30B0-7CFE-44E7-8F00-52E48015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C9A00-0FC5-484B-B4C0-B47E7C29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D106F-5FC0-465D-BA85-15A9EAF9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38AF-5460-45AE-9167-2EF51F22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390D1-5419-4D73-A93D-E3737942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D56D6-3614-4B04-A953-EFB5F5D4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189A7-63CB-46D2-9BF2-07806DB2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0028B-4264-4E23-B2C3-3224AE3F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A3BB0-0016-43E2-AA42-A422A76C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01307-1CE4-4DE2-9580-216CE7DC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20785-8090-427D-BB98-4A33F168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F50FA-ABE2-40B7-A6F4-90C6E622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6A4A4-CABD-412E-B6BE-D9484608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B524F-B4B7-43BA-BD55-D374FAA4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0DF2-390D-439D-8680-5997D340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4305A-81C1-41EE-9ACE-72DA1546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91B80-5AF4-4AC7-AFDE-B4F7CC29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8AC81-CC71-4F9B-A1B1-47AD04B3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F99BC-87E4-4C4F-9EA7-401D9B6E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54643-4160-4AF0-B620-9FDB1F70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37306-ACD9-40E3-9EC6-D1BEAE64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DEF9F-9EA4-43FF-A0D7-3BC5282E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3A5FC-BF2F-4FA2-996A-129F0B35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FF70D-C39D-411C-B67D-1B81A7CE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EA7AF-9197-45EE-A5BF-6C4BBFFA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56F4-9BA6-4789-8276-DDF6FB2B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79125-2FF7-4649-83F9-ADB16C2D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36C603-3CE0-4736-9591-C1CBEFC4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AA0E61-3A0E-4AF3-B89B-3551160F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4117D8-8015-48F2-983E-8FD92BE5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CC89E9-B202-4D87-BF46-1A6AEA1F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E57E10-4F08-462C-8DA5-784B9430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EA6C3D-F978-413B-A779-88461BC1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0EA7CF-60EA-4EC0-92DF-6393575C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BDF1F8-3FB3-441C-9DE3-1F58928F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1C1F76-DD14-497F-B2AE-50862507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38E7-B190-407A-8D5E-9CD7EE4C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F31E32-226F-4990-80A2-DC69370B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DD21CD-6BD0-4AF2-A295-AC8E355C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D6029E-E804-4525-85C6-2212A660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FF6B4C-3B3C-46FF-BCCA-632E72F6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069F1B-954C-4746-B0D9-BA4EA930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3877B8-5C51-4E08-9F52-F39DF22F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EBE300-9A00-44EF-81DB-EEC0DAF0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3A50D5-BE8C-42EE-AE46-933D9644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3034D4-53A3-406C-A731-C4818ECA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97EC49-5CAA-4DE8-A4FC-C18E284F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9290-3810-4335-9130-48604C66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564641-0C25-48DC-BA42-9E44ABE0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3C635B-D0E4-4E7C-9A50-A1183CD7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D3BED9-0758-48AC-9159-5C4E8591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E3E6EC-F18E-441E-9F20-593EBBE6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494F72-D317-4AB5-A393-D4486289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E460D-384F-485B-9878-EE481BCA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AE599-E76B-4032-BD40-B7381361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C2006-69EF-4C70-8E7C-9A8E7273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0AFF0-1D40-446D-A39A-1B142EC0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FF327-29F2-4CD7-8E28-368FB160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C460-509E-4DD3-825B-4BA778C9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CE833-2F01-43AC-BFBF-6C73C8E9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BE3CB-0162-4481-9251-0E891BB6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AAAAF-3BB1-4536-8E79-019B2DE0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0A82B-0F9B-4559-8463-42E34CAB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F1802-35D6-49CD-B42F-D54B3905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93A8B-6C9A-4617-BCDA-322D264B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D4781-8CC4-4E89-9644-042BD311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92516-07AD-48A8-8FA1-93C03F3D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95E10-B1F8-4291-9C0E-3E4D5878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7F3C2-9E8C-465F-B171-05DBE527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9383-9D4A-436A-9420-B9CA3A6FC7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900000" y="3870360"/>
            <a:ext cx="1443240" cy="1778040"/>
          </a:xfrm>
          <a:prstGeom prst="rect">
            <a:avLst/>
          </a:prstGeom>
          <a:ln w="0">
            <a:noFill/>
          </a:ln>
        </p:spPr>
      </p:pic>
      <p:pic>
        <p:nvPicPr>
          <p:cNvPr id="50" name="Obraz 1" descr=""/>
          <p:cNvPicPr/>
          <p:nvPr/>
        </p:nvPicPr>
        <p:blipFill>
          <a:blip r:embed="rId3"/>
          <a:stretch/>
        </p:blipFill>
        <p:spPr>
          <a:xfrm>
            <a:off x="2343240" y="593640"/>
            <a:ext cx="4444920" cy="95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E5AC-274E-4E9B-B62A-0504377FE0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0" descr="JR.JPG"/>
          <p:cNvPicPr/>
          <p:nvPr/>
        </p:nvPicPr>
        <p:blipFill>
          <a:blip r:embed="rId2"/>
          <a:stretch/>
        </p:blipFill>
        <p:spPr>
          <a:xfrm>
            <a:off x="6145200" y="2414520"/>
            <a:ext cx="1968480" cy="1797120"/>
          </a:xfrm>
          <a:prstGeom prst="rect">
            <a:avLst/>
          </a:prstGeom>
          <a:ln w="0">
            <a:noFill/>
          </a:ln>
        </p:spPr>
      </p:pic>
      <p:pic>
        <p:nvPicPr>
          <p:cNvPr id="97" name="Obraz 10" descr="logo.jpg"/>
          <p:cNvPicPr/>
          <p:nvPr/>
        </p:nvPicPr>
        <p:blipFill>
          <a:blip r:embed="rId3"/>
          <a:stretch/>
        </p:blipFill>
        <p:spPr>
          <a:xfrm>
            <a:off x="5940360" y="4221000"/>
            <a:ext cx="2286000" cy="884520"/>
          </a:xfrm>
          <a:prstGeom prst="rect">
            <a:avLst/>
          </a:prstGeom>
          <a:ln w="0">
            <a:noFill/>
          </a:ln>
        </p:spPr>
      </p:pic>
      <p:pic>
        <p:nvPicPr>
          <p:cNvPr id="98" name="Obraz 3" descr=""/>
          <p:cNvPicPr/>
          <p:nvPr/>
        </p:nvPicPr>
        <p:blipFill>
          <a:blip r:embed="rId4"/>
          <a:stretch/>
        </p:blipFill>
        <p:spPr>
          <a:xfrm>
            <a:off x="250920" y="620640"/>
            <a:ext cx="444492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Obraz 4" descr=""/>
          <p:cNvPicPr/>
          <p:nvPr/>
        </p:nvPicPr>
        <p:blipFill>
          <a:blip r:embed="rId5"/>
          <a:stretch/>
        </p:blipFill>
        <p:spPr>
          <a:xfrm>
            <a:off x="1619280" y="2698920"/>
            <a:ext cx="2246400" cy="150156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6"/>
          <p:cNvSpPr/>
          <p:nvPr/>
        </p:nvSpPr>
        <p:spPr>
          <a:xfrm>
            <a:off x="1547640" y="4437000"/>
            <a:ext cx="23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Stanisław Porę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0F4D-FF35-40BE-8D0A-46F005F847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B590-CC60-40F1-92EB-22E5C92C42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EEAB-38B1-46B2-BB49-FE423C41AB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6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3F36-320A-4B6D-BEE4-15B16003B6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dt" idx="17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8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9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35D9-B548-4C19-B945-59E8F4CB7E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dt" idx="20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ftr" idx="21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E8D0-9E40-4D54-A254-64F02714BA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Obraz 10" descr="logo.jpg"/>
          <p:cNvPicPr/>
          <p:nvPr/>
        </p:nvPicPr>
        <p:blipFill>
          <a:blip r:embed="rId2"/>
          <a:stretch/>
        </p:blipFill>
        <p:spPr>
          <a:xfrm>
            <a:off x="8259840" y="4365720"/>
            <a:ext cx="882720" cy="2286000"/>
          </a:xfrm>
          <a:prstGeom prst="rect">
            <a:avLst/>
          </a:prstGeom>
          <a:ln w="0">
            <a:noFill/>
          </a:ln>
        </p:spPr>
      </p:pic>
      <p:sp>
        <p:nvSpPr>
          <p:cNvPr id="377" name="Tytuł 7"/>
          <p:cNvSpPr/>
          <p:nvPr/>
        </p:nvSpPr>
        <p:spPr>
          <a:xfrm rot="5400000">
            <a:off x="6669360" y="2050200"/>
            <a:ext cx="4176720" cy="3078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Kliknij, aby edytować sty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B641-D975-4C57-8353-AFDACC8A22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343240" y="3870360"/>
            <a:ext cx="5921280" cy="176832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alibri"/>
              </a:rPr>
              <a:t>Szanse i zagrożenia dla elektrowni wodnych</a:t>
            </a:r>
            <a:br>
              <a:rPr sz="1900"/>
            </a:br>
            <a:r>
              <a:rPr b="1" lang="pl-PL" sz="1900" spc="-1" strike="noStrike">
                <a:solidFill>
                  <a:srgbClr val="ffffff"/>
                </a:solidFill>
                <a:latin typeface="Calibri"/>
              </a:rPr>
              <a:t>wynikające ze zmian na rynku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7332840" cy="18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Calibri"/>
              </a:rPr>
              <a:t>Energetyka wodna w poszukiwaniu szans na rynku energii elektrycznej i rynku mo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ole tekstowe 1"/>
          <p:cNvSpPr/>
          <p:nvPr/>
        </p:nvSpPr>
        <p:spPr>
          <a:xfrm>
            <a:off x="2549520" y="5870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tanisław Porę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ole tekstowe 4"/>
          <p:cNvSpPr/>
          <p:nvPr/>
        </p:nvSpPr>
        <p:spPr>
          <a:xfrm>
            <a:off x="5651640" y="5872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n Rak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lumen i średnia cena energii elektrycznej na rynku niemieckim w latach 2008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odstawowy problem – niskie ceny (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energii elektrycznej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87BD-09FF-48D5-A715-E06BAAA324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Chart 50403" descr=""/>
          <p:cNvPicPr/>
          <p:nvPr/>
        </p:nvPicPr>
        <p:blipFill>
          <a:blip r:embed="rId1"/>
          <a:stretch/>
        </p:blipFill>
        <p:spPr>
          <a:xfrm>
            <a:off x="1182600" y="2097000"/>
            <a:ext cx="7004160" cy="3065400"/>
          </a:xfrm>
          <a:prstGeom prst="rect">
            <a:avLst/>
          </a:prstGeom>
          <a:ln w="0">
            <a:noFill/>
          </a:ln>
        </p:spPr>
      </p:pic>
      <p:sp>
        <p:nvSpPr>
          <p:cNvPr id="490" name="Prostokąt 10"/>
          <p:cNvSpPr/>
          <p:nvPr/>
        </p:nvSpPr>
        <p:spPr>
          <a:xfrm>
            <a:off x="1163520" y="5267160"/>
            <a:ext cx="676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Źródło: EEX (kontrakty terminowe według daty dostawy) – stan na dzień 31.12.2013. za E&amp;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gnozy cen opracowane przez specjalistyczne firmy oraz instytucje finansowe są na ogół zgodne, że do 2016 roku nie będzie istotnych zmian c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 tym okresie występuje wysoka rozbieżność prognoz, wynika to z niepewności co do regulacji unijnych, a zwłaszcza zmian zasad funkcjonowania systemu handlu emisjami. Przeważają prognozy utrzymujące niskie ceny (poniżej 40 EUR/MWh) co najmniej do 2020 roku. Przy rosnących kosztach zakupu uprawnień do emisji, nie są to warunki sprzyjające podejmowaniu decyzji inwestycyjn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odstawowy problem – niskie ceny (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energii elektrycznej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7397-F3CE-4306-BF1D-641BC0FB56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erspektywie 2020 r. brak nadziei na wysokie ceny energii na rynku energ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godnie z prognozami OSP należy się liczyć z nadmiarem energii dostępnej na rynku w dolinach noc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 niezmienionych zasadach polskiego rynku energii zmienność cen w dobie nie będzie znaczą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miar energii w dolinach nocnych będzie się zwiększał dla okresów występowania silnych wiatrów, dla których generacja w elektrowniach wiatrowych będzie przekraczała 70 % mocy tych elektrow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noza dla elektrowni wodnych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energii elektrycznej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1105-8A2D-4126-A92D-D307E60190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kazanie dla elektrowni wodnych zachowań na rynku energii elektrycznej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ntensyfikacja produkcji energii elektrycznej w szczytach zapotrzebowania, poprzez maksymalne wykorzystywanie pojemności zbiorników i dostosowanie do większych wahań poziomu górnej wod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ksymalizacja możliwości magazynowania energii w wodzie poprzez inwestycje w człony pompowe i wykorzystywanie do pompowania taniej energii ze źródeł wiatr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noza dla elektrowni wodnych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energii elektrycznej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2D01-202C-45BE-A1DE-E73C1C51D6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Szanse i zagrożenia dla elektrowni wodnych wynikające ze zmian na rynku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839D-6853-4FD0-8725-6773DA8405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Wprowadzenie – wyznaczniki rynków energii w Polsce w perspektywie</a:t>
            </a:r>
            <a:br>
              <a:rPr sz="2000"/>
            </a:b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lat 2016 – 20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usług syste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Nowe możliwości dla elektrowni wod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Katalog usług system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2F42-4DBE-4F93-97C9-F7CF80BC4E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Symbol zastępczy zawartości 7" descr=""/>
          <p:cNvPicPr/>
          <p:nvPr/>
        </p:nvPicPr>
        <p:blipFill>
          <a:blip r:embed="rId1"/>
          <a:stretch/>
        </p:blipFill>
        <p:spPr>
          <a:xfrm>
            <a:off x="1473120" y="765000"/>
            <a:ext cx="6627960" cy="58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Udział JWCD, nJWCD i odbiorców w rynku bilansującym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i rynku usług system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C06B-07F1-4719-80AC-86BCBB3440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3"/>
          <p:cNvSpPr/>
          <p:nvPr/>
        </p:nvSpPr>
        <p:spPr>
          <a:xfrm>
            <a:off x="4921200" y="549360"/>
            <a:ext cx="3322800" cy="6048360"/>
          </a:xfrm>
          <a:custGeom>
            <a:avLst/>
            <a:gdLst>
              <a:gd name="textAreaLeft" fmla="*/ 60840 w 3322800"/>
              <a:gd name="textAreaRight" fmla="*/ 3261960 w 3322800"/>
              <a:gd name="textAreaTop" fmla="*/ 60840 h 6048360"/>
              <a:gd name="textAreaBottom" fmla="*/ 5987520 h 6048360"/>
            </a:gdLst>
            <a:ahLst/>
            <a:rect l="textAreaLeft" t="textAreaTop" r="textAreaRight" b="textAreaBottom"/>
            <a:pathLst>
              <a:path w="21600" h="39316">
                <a:moveTo>
                  <a:pt x="1354" y="0"/>
                </a:moveTo>
                <a:arcTo wR="1354" hR="1354" stAng="16200000" swAng="-5400000"/>
                <a:lnTo>
                  <a:pt x="0" y="37962"/>
                </a:lnTo>
                <a:arcTo wR="1354" hR="1354" stAng="10800000" swAng="-5400000"/>
                <a:lnTo>
                  <a:pt x="20246" y="39316"/>
                </a:lnTo>
                <a:arcTo wR="1354" hR="1354" stAng="5400000" swAng="-5400000"/>
                <a:lnTo>
                  <a:pt x="21600" y="1354"/>
                </a:lnTo>
                <a:arcTo wR="1354" hR="1354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usług system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3398760" y="1100160"/>
            <a:ext cx="1100160" cy="3502080"/>
          </a:xfrm>
          <a:custGeom>
            <a:avLst/>
            <a:gdLst>
              <a:gd name="textAreaLeft" fmla="*/ 53640 w 1100160"/>
              <a:gd name="textAreaRight" fmla="*/ 1046520 w 1100160"/>
              <a:gd name="textAreaTop" fmla="*/ 53640 h 3502080"/>
              <a:gd name="textAreaBottom" fmla="*/ 3448440 h 3502080"/>
            </a:gdLst>
            <a:ahLst/>
            <a:rect l="textAreaLeft" t="textAreaTop" r="textAreaRight" b="textAreaBottom"/>
            <a:pathLst>
              <a:path w="21600" h="68743">
                <a:moveTo>
                  <a:pt x="3600" y="0"/>
                </a:moveTo>
                <a:arcTo wR="3600" hR="3600" stAng="16200000" swAng="-5400000"/>
                <a:lnTo>
                  <a:pt x="0" y="65143"/>
                </a:lnTo>
                <a:arcTo wR="3600" hR="3600" stAng="10800000" swAng="-5400000"/>
                <a:lnTo>
                  <a:pt x="18000" y="687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JWC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JG</a:t>
            </a:r>
            <a:r>
              <a:rPr b="1" lang="pl-PL" sz="1800" spc="-1" strike="noStrike" baseline="-25000">
                <a:solidFill>
                  <a:srgbClr val="ffffff"/>
                </a:solidFill>
                <a:latin typeface="Calibri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22"/>
          <p:cNvSpPr/>
          <p:nvPr/>
        </p:nvSpPr>
        <p:spPr>
          <a:xfrm>
            <a:off x="5162400" y="5989680"/>
            <a:ext cx="293868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93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sługa odbudowy K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1"/>
          <p:cNvSpPr/>
          <p:nvPr/>
        </p:nvSpPr>
        <p:spPr>
          <a:xfrm>
            <a:off x="5116680" y="3299400"/>
            <a:ext cx="293832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300"/>
              </a:gs>
              <a:gs pos="50000">
                <a:srgbClr val="00ff00"/>
              </a:gs>
              <a:gs pos="100000">
                <a:srgbClr val="009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sługa uruchomienia J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0"/>
          <p:cNvSpPr/>
          <p:nvPr/>
        </p:nvSpPr>
        <p:spPr>
          <a:xfrm>
            <a:off x="5148360" y="4833000"/>
            <a:ext cx="294300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93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sługa G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3"/>
          <p:cNvSpPr/>
          <p:nvPr/>
        </p:nvSpPr>
        <p:spPr>
          <a:xfrm>
            <a:off x="5116680" y="1100880"/>
            <a:ext cx="293184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Operacyjna rezerwa mo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6"/>
          <p:cNvSpPr/>
          <p:nvPr/>
        </p:nvSpPr>
        <p:spPr>
          <a:xfrm>
            <a:off x="5129280" y="1532520"/>
            <a:ext cx="293220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Regulacja pierwot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7"/>
          <p:cNvSpPr/>
          <p:nvPr/>
        </p:nvSpPr>
        <p:spPr>
          <a:xfrm>
            <a:off x="5114880" y="1962720"/>
            <a:ext cx="293364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Regulacja wtó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9"/>
          <p:cNvSpPr/>
          <p:nvPr/>
        </p:nvSpPr>
        <p:spPr>
          <a:xfrm>
            <a:off x="5116680" y="2404080"/>
            <a:ext cx="293184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Zaniżenia/przeciąż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0"/>
          <p:cNvSpPr/>
          <p:nvPr/>
        </p:nvSpPr>
        <p:spPr>
          <a:xfrm>
            <a:off x="5129280" y="2851920"/>
            <a:ext cx="293832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A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1"/>
          <p:cNvSpPr/>
          <p:nvPr/>
        </p:nvSpPr>
        <p:spPr>
          <a:xfrm>
            <a:off x="5148360" y="5337000"/>
            <a:ext cx="2952720" cy="54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Redukcja zapotrzebow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na polecenie O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1"/>
          <p:cNvSpPr/>
          <p:nvPr/>
        </p:nvSpPr>
        <p:spPr>
          <a:xfrm>
            <a:off x="5119560" y="3762360"/>
            <a:ext cx="2952720" cy="4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Praca interwencyj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1"/>
          <p:cNvSpPr/>
          <p:nvPr/>
        </p:nvSpPr>
        <p:spPr>
          <a:xfrm>
            <a:off x="5130720" y="4221000"/>
            <a:ext cx="2951280" cy="40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Interwencyjna rezerwa zim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3384720" y="4695840"/>
            <a:ext cx="1099800" cy="6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nJW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3424320" y="5392800"/>
            <a:ext cx="11016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050"/>
              </a:gs>
              <a:gs pos="100000">
                <a:srgbClr val="92d05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Odbio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3"/>
          <p:cNvSpPr/>
          <p:nvPr/>
        </p:nvSpPr>
        <p:spPr>
          <a:xfrm>
            <a:off x="623880" y="1430280"/>
            <a:ext cx="2352600" cy="4559400"/>
          </a:xfrm>
          <a:custGeom>
            <a:avLst/>
            <a:gdLst>
              <a:gd name="textAreaLeft" fmla="*/ 114840 w 2352600"/>
              <a:gd name="textAreaRight" fmla="*/ 2237760 w 2352600"/>
              <a:gd name="textAreaTop" fmla="*/ 114840 h 4559400"/>
              <a:gd name="textAreaBottom" fmla="*/ 4444560 h 4559400"/>
            </a:gdLst>
            <a:ahLst/>
            <a:rect l="textAreaLeft" t="textAreaTop" r="textAreaRight" b="textAreaBottom"/>
            <a:pathLst>
              <a:path w="21600" h="41858">
                <a:moveTo>
                  <a:pt x="3600" y="0"/>
                </a:moveTo>
                <a:arcTo wR="3600" hR="3600" stAng="16200000" swAng="-5400000"/>
                <a:lnTo>
                  <a:pt x="0" y="38258"/>
                </a:lnTo>
                <a:arcTo wR="3600" hR="3600" stAng="10800000" swAng="-5400000"/>
                <a:lnTo>
                  <a:pt x="18000" y="41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bilansują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ięciokąt 23"/>
          <p:cNvSpPr/>
          <p:nvPr/>
        </p:nvSpPr>
        <p:spPr>
          <a:xfrm flipH="1">
            <a:off x="1908000" y="2346480"/>
            <a:ext cx="1371600" cy="38880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4" y="0"/>
                </a:lnTo>
                <a:lnTo>
                  <a:pt x="21600" y="10800"/>
                </a:lnTo>
                <a:lnTo>
                  <a:pt x="185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1da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racja swobo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załka w prawo 24"/>
          <p:cNvSpPr/>
          <p:nvPr/>
        </p:nvSpPr>
        <p:spPr>
          <a:xfrm>
            <a:off x="4525920" y="1236600"/>
            <a:ext cx="592200" cy="222480"/>
          </a:xfrm>
          <a:prstGeom prst="rightArrow">
            <a:avLst>
              <a:gd name="adj1" fmla="val 50000"/>
              <a:gd name="adj2" fmla="val 49761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ięciokąt 25"/>
          <p:cNvSpPr/>
          <p:nvPr/>
        </p:nvSpPr>
        <p:spPr>
          <a:xfrm flipH="1">
            <a:off x="1908000" y="2997360"/>
            <a:ext cx="1371600" cy="38880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5" y="0"/>
                </a:lnTo>
                <a:lnTo>
                  <a:pt x="21600" y="10800"/>
                </a:lnTo>
                <a:lnTo>
                  <a:pt x="185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1da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racja wymus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załka w prawo 26"/>
          <p:cNvSpPr/>
          <p:nvPr/>
        </p:nvSpPr>
        <p:spPr>
          <a:xfrm>
            <a:off x="4537080" y="4933800"/>
            <a:ext cx="593640" cy="222480"/>
          </a:xfrm>
          <a:prstGeom prst="rightArrow">
            <a:avLst>
              <a:gd name="adj1" fmla="val 50000"/>
              <a:gd name="adj2" fmla="val 49882"/>
            </a:avLst>
          </a:prstGeom>
          <a:gradFill rotWithShape="0">
            <a:gsLst>
              <a:gs pos="0">
                <a:srgbClr val="ffc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załka w prawo 27"/>
          <p:cNvSpPr/>
          <p:nvPr/>
        </p:nvSpPr>
        <p:spPr>
          <a:xfrm>
            <a:off x="4541760" y="5489640"/>
            <a:ext cx="592200" cy="222120"/>
          </a:xfrm>
          <a:prstGeom prst="rightArrow">
            <a:avLst>
              <a:gd name="adj1" fmla="val 50000"/>
              <a:gd name="adj2" fmla="val 49842"/>
            </a:avLst>
          </a:prstGeom>
          <a:gradFill rotWithShape="0">
            <a:gsLst>
              <a:gs pos="0">
                <a:srgbClr val="92d050"/>
              </a:gs>
              <a:gs pos="100000">
                <a:srgbClr val="92d05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załka w prawo 28"/>
          <p:cNvSpPr/>
          <p:nvPr/>
        </p:nvSpPr>
        <p:spPr>
          <a:xfrm>
            <a:off x="4530600" y="1628640"/>
            <a:ext cx="594000" cy="222480"/>
          </a:xfrm>
          <a:prstGeom prst="rightArrow">
            <a:avLst>
              <a:gd name="adj1" fmla="val 50000"/>
              <a:gd name="adj2" fmla="val 49912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załka w prawo 29"/>
          <p:cNvSpPr/>
          <p:nvPr/>
        </p:nvSpPr>
        <p:spPr>
          <a:xfrm>
            <a:off x="4506840" y="2924280"/>
            <a:ext cx="592200" cy="222120"/>
          </a:xfrm>
          <a:prstGeom prst="rightArrow">
            <a:avLst>
              <a:gd name="adj1" fmla="val 50000"/>
              <a:gd name="adj2" fmla="val 49842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załka w prawo 30"/>
          <p:cNvSpPr/>
          <p:nvPr/>
        </p:nvSpPr>
        <p:spPr>
          <a:xfrm>
            <a:off x="4516560" y="3406680"/>
            <a:ext cx="593640" cy="222480"/>
          </a:xfrm>
          <a:prstGeom prst="rightArrow">
            <a:avLst>
              <a:gd name="adj1" fmla="val 50000"/>
              <a:gd name="adj2" fmla="val 49882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załka w prawo 32"/>
          <p:cNvSpPr/>
          <p:nvPr/>
        </p:nvSpPr>
        <p:spPr>
          <a:xfrm>
            <a:off x="4498920" y="2460600"/>
            <a:ext cx="593640" cy="220680"/>
          </a:xfrm>
          <a:prstGeom prst="rightArrow">
            <a:avLst>
              <a:gd name="adj1" fmla="val 50000"/>
              <a:gd name="adj2" fmla="val 50289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załka w prawo 33"/>
          <p:cNvSpPr/>
          <p:nvPr/>
        </p:nvSpPr>
        <p:spPr>
          <a:xfrm>
            <a:off x="4516560" y="2065320"/>
            <a:ext cx="591840" cy="220680"/>
          </a:xfrm>
          <a:prstGeom prst="rightArrow">
            <a:avLst>
              <a:gd name="adj1" fmla="val 50000"/>
              <a:gd name="adj2" fmla="val 50136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załka w prawo 34"/>
          <p:cNvSpPr/>
          <p:nvPr/>
        </p:nvSpPr>
        <p:spPr>
          <a:xfrm>
            <a:off x="4513320" y="3859200"/>
            <a:ext cx="592200" cy="222120"/>
          </a:xfrm>
          <a:prstGeom prst="rightArrow">
            <a:avLst>
              <a:gd name="adj1" fmla="val 50000"/>
              <a:gd name="adj2" fmla="val 49842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załka w prawo 35"/>
          <p:cNvSpPr/>
          <p:nvPr/>
        </p:nvSpPr>
        <p:spPr>
          <a:xfrm>
            <a:off x="4527720" y="4309920"/>
            <a:ext cx="593640" cy="222480"/>
          </a:xfrm>
          <a:prstGeom prst="rightArrow">
            <a:avLst>
              <a:gd name="adj1" fmla="val 50000"/>
              <a:gd name="adj2" fmla="val 49882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3444840" y="6002280"/>
            <a:ext cx="1101600" cy="46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JWCD, nJW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załka w prawo 37"/>
          <p:cNvSpPr/>
          <p:nvPr/>
        </p:nvSpPr>
        <p:spPr>
          <a:xfrm>
            <a:off x="4554360" y="6127920"/>
            <a:ext cx="592200" cy="220320"/>
          </a:xfrm>
          <a:prstGeom prst="rightArrow">
            <a:avLst>
              <a:gd name="adj1" fmla="val 50000"/>
              <a:gd name="adj2" fmla="val 50249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4"/>
          <p:cNvSpPr/>
          <p:nvPr/>
        </p:nvSpPr>
        <p:spPr>
          <a:xfrm>
            <a:off x="3922560" y="3730680"/>
            <a:ext cx="752760" cy="46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JG</a:t>
            </a:r>
            <a:r>
              <a:rPr b="1" lang="pl-PL" sz="1400" spc="-1" strike="noStrike" baseline="-25000">
                <a:solidFill>
                  <a:srgbClr val="ffffff"/>
                </a:solidFill>
                <a:latin typeface="Calibri"/>
              </a:rPr>
              <a:t>OS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ięciokąt 39"/>
          <p:cNvSpPr/>
          <p:nvPr/>
        </p:nvSpPr>
        <p:spPr>
          <a:xfrm flipH="1">
            <a:off x="1908000" y="5400720"/>
            <a:ext cx="1371600" cy="39060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4" y="0"/>
                </a:lnTo>
                <a:lnTo>
                  <a:pt x="21600" y="10800"/>
                </a:lnTo>
                <a:lnTo>
                  <a:pt x="185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1da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dukcja zapotrzebow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Udział dużych elektrowni wodnych (posiadających JWCD)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 rynku bilansującym i rynku usług system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4F7E-A59C-4365-A46B-384B7BADEA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3"/>
          <p:cNvSpPr/>
          <p:nvPr/>
        </p:nvSpPr>
        <p:spPr>
          <a:xfrm>
            <a:off x="4921200" y="549360"/>
            <a:ext cx="3322800" cy="6048360"/>
          </a:xfrm>
          <a:custGeom>
            <a:avLst/>
            <a:gdLst>
              <a:gd name="textAreaLeft" fmla="*/ 60840 w 3322800"/>
              <a:gd name="textAreaRight" fmla="*/ 3261960 w 3322800"/>
              <a:gd name="textAreaTop" fmla="*/ 60840 h 6048360"/>
              <a:gd name="textAreaBottom" fmla="*/ 5987520 h 6048360"/>
            </a:gdLst>
            <a:ahLst/>
            <a:rect l="textAreaLeft" t="textAreaTop" r="textAreaRight" b="textAreaBottom"/>
            <a:pathLst>
              <a:path w="21600" h="39316">
                <a:moveTo>
                  <a:pt x="1354" y="0"/>
                </a:moveTo>
                <a:arcTo wR="1354" hR="1354" stAng="16200000" swAng="-5400000"/>
                <a:lnTo>
                  <a:pt x="0" y="37962"/>
                </a:lnTo>
                <a:arcTo wR="1354" hR="1354" stAng="10800000" swAng="-5400000"/>
                <a:lnTo>
                  <a:pt x="20246" y="39316"/>
                </a:lnTo>
                <a:arcTo wR="1354" hR="1354" stAng="5400000" swAng="-5400000"/>
                <a:lnTo>
                  <a:pt x="21600" y="1354"/>
                </a:lnTo>
                <a:arcTo wR="1354" hR="1354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usług system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>
            <a:off x="3398760" y="1100160"/>
            <a:ext cx="1100160" cy="3502080"/>
          </a:xfrm>
          <a:custGeom>
            <a:avLst/>
            <a:gdLst>
              <a:gd name="textAreaLeft" fmla="*/ 53640 w 1100160"/>
              <a:gd name="textAreaRight" fmla="*/ 1046520 w 1100160"/>
              <a:gd name="textAreaTop" fmla="*/ 53640 h 3502080"/>
              <a:gd name="textAreaBottom" fmla="*/ 3448440 h 3502080"/>
            </a:gdLst>
            <a:ahLst/>
            <a:rect l="textAreaLeft" t="textAreaTop" r="textAreaRight" b="textAreaBottom"/>
            <a:pathLst>
              <a:path w="21600" h="68743">
                <a:moveTo>
                  <a:pt x="3600" y="0"/>
                </a:moveTo>
                <a:arcTo wR="3600" hR="3600" stAng="16200000" swAng="-5400000"/>
                <a:lnTo>
                  <a:pt x="0" y="65143"/>
                </a:lnTo>
                <a:arcTo wR="3600" hR="3600" stAng="10800000" swAng="-5400000"/>
                <a:lnTo>
                  <a:pt x="18000" y="687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JWC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JG</a:t>
            </a:r>
            <a:r>
              <a:rPr b="1" lang="pl-PL" sz="1800" spc="-1" strike="noStrike" baseline="-25000">
                <a:solidFill>
                  <a:srgbClr val="ffffff"/>
                </a:solidFill>
                <a:latin typeface="Calibri"/>
              </a:rPr>
              <a:t>OS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22"/>
          <p:cNvSpPr/>
          <p:nvPr/>
        </p:nvSpPr>
        <p:spPr>
          <a:xfrm>
            <a:off x="5162400" y="5989680"/>
            <a:ext cx="293868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93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sługa odbudowy K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3"/>
          <p:cNvSpPr/>
          <p:nvPr/>
        </p:nvSpPr>
        <p:spPr>
          <a:xfrm>
            <a:off x="5116680" y="1100880"/>
            <a:ext cx="293184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Operacyjna rezerwa mo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6"/>
          <p:cNvSpPr/>
          <p:nvPr/>
        </p:nvSpPr>
        <p:spPr>
          <a:xfrm>
            <a:off x="5129280" y="1532520"/>
            <a:ext cx="293220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Regulacja pierwot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7"/>
          <p:cNvSpPr/>
          <p:nvPr/>
        </p:nvSpPr>
        <p:spPr>
          <a:xfrm>
            <a:off x="5114880" y="1962720"/>
            <a:ext cx="293364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Regulacja wtó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20"/>
          <p:cNvSpPr/>
          <p:nvPr/>
        </p:nvSpPr>
        <p:spPr>
          <a:xfrm>
            <a:off x="5129280" y="2851920"/>
            <a:ext cx="293832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A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1"/>
          <p:cNvSpPr/>
          <p:nvPr/>
        </p:nvSpPr>
        <p:spPr>
          <a:xfrm>
            <a:off x="5119560" y="3762360"/>
            <a:ext cx="2952720" cy="4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Praca interwencyj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załka w prawo 24"/>
          <p:cNvSpPr/>
          <p:nvPr/>
        </p:nvSpPr>
        <p:spPr>
          <a:xfrm>
            <a:off x="4525920" y="1236600"/>
            <a:ext cx="592200" cy="222480"/>
          </a:xfrm>
          <a:prstGeom prst="rightArrow">
            <a:avLst>
              <a:gd name="adj1" fmla="val 50000"/>
              <a:gd name="adj2" fmla="val 49761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załka w prawo 28"/>
          <p:cNvSpPr/>
          <p:nvPr/>
        </p:nvSpPr>
        <p:spPr>
          <a:xfrm>
            <a:off x="4530600" y="1628640"/>
            <a:ext cx="594000" cy="222480"/>
          </a:xfrm>
          <a:prstGeom prst="rightArrow">
            <a:avLst>
              <a:gd name="adj1" fmla="val 50000"/>
              <a:gd name="adj2" fmla="val 49912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załka w prawo 33"/>
          <p:cNvSpPr/>
          <p:nvPr/>
        </p:nvSpPr>
        <p:spPr>
          <a:xfrm>
            <a:off x="4516560" y="2065320"/>
            <a:ext cx="591840" cy="220680"/>
          </a:xfrm>
          <a:prstGeom prst="rightArrow">
            <a:avLst>
              <a:gd name="adj1" fmla="val 50000"/>
              <a:gd name="adj2" fmla="val 50136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załka w prawo 34"/>
          <p:cNvSpPr/>
          <p:nvPr/>
        </p:nvSpPr>
        <p:spPr>
          <a:xfrm>
            <a:off x="4513320" y="3859200"/>
            <a:ext cx="592200" cy="222120"/>
          </a:xfrm>
          <a:prstGeom prst="rightArrow">
            <a:avLst>
              <a:gd name="adj1" fmla="val 50000"/>
              <a:gd name="adj2" fmla="val 49842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3444840" y="6002280"/>
            <a:ext cx="1101600" cy="46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JW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załka w prawo 37"/>
          <p:cNvSpPr/>
          <p:nvPr/>
        </p:nvSpPr>
        <p:spPr>
          <a:xfrm>
            <a:off x="4554360" y="6127920"/>
            <a:ext cx="592200" cy="220320"/>
          </a:xfrm>
          <a:prstGeom prst="rightArrow">
            <a:avLst>
              <a:gd name="adj1" fmla="val 50000"/>
              <a:gd name="adj2" fmla="val 50249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załka w prawo 39"/>
          <p:cNvSpPr/>
          <p:nvPr/>
        </p:nvSpPr>
        <p:spPr>
          <a:xfrm>
            <a:off x="4506840" y="2924280"/>
            <a:ext cx="592200" cy="222120"/>
          </a:xfrm>
          <a:prstGeom prst="rightArrow">
            <a:avLst>
              <a:gd name="adj1" fmla="val 50000"/>
              <a:gd name="adj2" fmla="val 49842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623880" y="1430280"/>
            <a:ext cx="2352600" cy="4559400"/>
          </a:xfrm>
          <a:custGeom>
            <a:avLst/>
            <a:gdLst>
              <a:gd name="textAreaLeft" fmla="*/ 114840 w 2352600"/>
              <a:gd name="textAreaRight" fmla="*/ 2237760 w 2352600"/>
              <a:gd name="textAreaTop" fmla="*/ 114840 h 4559400"/>
              <a:gd name="textAreaBottom" fmla="*/ 4444560 h 4559400"/>
            </a:gdLst>
            <a:ahLst/>
            <a:rect l="textAreaLeft" t="textAreaTop" r="textAreaRight" b="textAreaBottom"/>
            <a:pathLst>
              <a:path w="21600" h="41858">
                <a:moveTo>
                  <a:pt x="3600" y="0"/>
                </a:moveTo>
                <a:arcTo wR="3600" hR="3600" stAng="16200000" swAng="-5400000"/>
                <a:lnTo>
                  <a:pt x="0" y="38258"/>
                </a:lnTo>
                <a:arcTo wR="3600" hR="3600" stAng="10800000" swAng="-5400000"/>
                <a:lnTo>
                  <a:pt x="18000" y="41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bilansują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Teoretyczny” udział małych elektrowni wodnych (nJWCD)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 rynku bilansującym i rynku usług system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586A-D3DD-4A3B-99DC-9D6675650B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3"/>
          <p:cNvSpPr/>
          <p:nvPr/>
        </p:nvSpPr>
        <p:spPr>
          <a:xfrm>
            <a:off x="4921200" y="549360"/>
            <a:ext cx="3322800" cy="6048360"/>
          </a:xfrm>
          <a:custGeom>
            <a:avLst/>
            <a:gdLst>
              <a:gd name="textAreaLeft" fmla="*/ 60840 w 3322800"/>
              <a:gd name="textAreaRight" fmla="*/ 3261960 w 3322800"/>
              <a:gd name="textAreaTop" fmla="*/ 60840 h 6048360"/>
              <a:gd name="textAreaBottom" fmla="*/ 5987520 h 6048360"/>
            </a:gdLst>
            <a:ahLst/>
            <a:rect l="textAreaLeft" t="textAreaTop" r="textAreaRight" b="textAreaBottom"/>
            <a:pathLst>
              <a:path w="21600" h="39316">
                <a:moveTo>
                  <a:pt x="1354" y="0"/>
                </a:moveTo>
                <a:arcTo wR="1354" hR="1354" stAng="16200000" swAng="-5400000"/>
                <a:lnTo>
                  <a:pt x="0" y="37962"/>
                </a:lnTo>
                <a:arcTo wR="1354" hR="1354" stAng="10800000" swAng="-5400000"/>
                <a:lnTo>
                  <a:pt x="20246" y="39316"/>
                </a:lnTo>
                <a:arcTo wR="1354" hR="1354" stAng="5400000" swAng="-5400000"/>
                <a:lnTo>
                  <a:pt x="21600" y="1354"/>
                </a:lnTo>
                <a:arcTo wR="1354" hR="1354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usług system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22"/>
          <p:cNvSpPr/>
          <p:nvPr/>
        </p:nvSpPr>
        <p:spPr>
          <a:xfrm>
            <a:off x="5162400" y="5989680"/>
            <a:ext cx="293868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93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sługa odbudowy K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0"/>
          <p:cNvSpPr/>
          <p:nvPr/>
        </p:nvSpPr>
        <p:spPr>
          <a:xfrm>
            <a:off x="5148360" y="4833000"/>
            <a:ext cx="294300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93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sługa G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3384720" y="4695840"/>
            <a:ext cx="1099800" cy="6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nJW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trzałka w prawo 26"/>
          <p:cNvSpPr/>
          <p:nvPr/>
        </p:nvSpPr>
        <p:spPr>
          <a:xfrm>
            <a:off x="4537080" y="4933800"/>
            <a:ext cx="593640" cy="222480"/>
          </a:xfrm>
          <a:prstGeom prst="rightArrow">
            <a:avLst>
              <a:gd name="adj1" fmla="val 50000"/>
              <a:gd name="adj2" fmla="val 49882"/>
            </a:avLst>
          </a:prstGeom>
          <a:gradFill rotWithShape="0">
            <a:gsLst>
              <a:gs pos="0">
                <a:srgbClr val="ffc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"/>
          <p:cNvSpPr/>
          <p:nvPr/>
        </p:nvSpPr>
        <p:spPr>
          <a:xfrm>
            <a:off x="3444840" y="6002280"/>
            <a:ext cx="1101600" cy="46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nJW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załka w prawo 37"/>
          <p:cNvSpPr/>
          <p:nvPr/>
        </p:nvSpPr>
        <p:spPr>
          <a:xfrm>
            <a:off x="4554360" y="6127920"/>
            <a:ext cx="592200" cy="220320"/>
          </a:xfrm>
          <a:prstGeom prst="rightArrow">
            <a:avLst>
              <a:gd name="adj1" fmla="val 50000"/>
              <a:gd name="adj2" fmla="val 50249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3"/>
          <p:cNvSpPr/>
          <p:nvPr/>
        </p:nvSpPr>
        <p:spPr>
          <a:xfrm>
            <a:off x="623880" y="1430280"/>
            <a:ext cx="2352600" cy="4559400"/>
          </a:xfrm>
          <a:custGeom>
            <a:avLst/>
            <a:gdLst>
              <a:gd name="textAreaLeft" fmla="*/ 114840 w 2352600"/>
              <a:gd name="textAreaRight" fmla="*/ 2237760 w 2352600"/>
              <a:gd name="textAreaTop" fmla="*/ 114840 h 4559400"/>
              <a:gd name="textAreaBottom" fmla="*/ 4444560 h 4559400"/>
            </a:gdLst>
            <a:ahLst/>
            <a:rect l="textAreaLeft" t="textAreaTop" r="textAreaRight" b="textAreaBottom"/>
            <a:pathLst>
              <a:path w="21600" h="41858">
                <a:moveTo>
                  <a:pt x="3600" y="0"/>
                </a:moveTo>
                <a:arcTo wR="3600" hR="3600" stAng="16200000" swAng="-5400000"/>
                <a:lnTo>
                  <a:pt x="0" y="38258"/>
                </a:lnTo>
                <a:arcTo wR="3600" hR="3600" stAng="10800000" swAng="-5400000"/>
                <a:lnTo>
                  <a:pt x="18000" y="41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bilansują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aktyczny” udział małych elektrowni wodnych (nJWCD)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 rynku bilansującym i rynku usług system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0884-4981-4B6B-8DC1-6FA35E6F8F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3"/>
          <p:cNvSpPr/>
          <p:nvPr/>
        </p:nvSpPr>
        <p:spPr>
          <a:xfrm>
            <a:off x="4921200" y="549360"/>
            <a:ext cx="3322800" cy="6048360"/>
          </a:xfrm>
          <a:custGeom>
            <a:avLst/>
            <a:gdLst>
              <a:gd name="textAreaLeft" fmla="*/ 60840 w 3322800"/>
              <a:gd name="textAreaRight" fmla="*/ 3261960 w 3322800"/>
              <a:gd name="textAreaTop" fmla="*/ 60840 h 6048360"/>
              <a:gd name="textAreaBottom" fmla="*/ 5987520 h 6048360"/>
            </a:gdLst>
            <a:ahLst/>
            <a:rect l="textAreaLeft" t="textAreaTop" r="textAreaRight" b="textAreaBottom"/>
            <a:pathLst>
              <a:path w="21600" h="39316">
                <a:moveTo>
                  <a:pt x="1354" y="0"/>
                </a:moveTo>
                <a:arcTo wR="1354" hR="1354" stAng="16200000" swAng="-5400000"/>
                <a:lnTo>
                  <a:pt x="0" y="37962"/>
                </a:lnTo>
                <a:arcTo wR="1354" hR="1354" stAng="10800000" swAng="-5400000"/>
                <a:lnTo>
                  <a:pt x="20246" y="39316"/>
                </a:lnTo>
                <a:arcTo wR="1354" hR="1354" stAng="5400000" swAng="-5400000"/>
                <a:lnTo>
                  <a:pt x="21600" y="1354"/>
                </a:lnTo>
                <a:arcTo wR="1354" hR="1354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usług system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3"/>
          <p:cNvSpPr/>
          <p:nvPr/>
        </p:nvSpPr>
        <p:spPr>
          <a:xfrm>
            <a:off x="623880" y="1430280"/>
            <a:ext cx="2352600" cy="4559400"/>
          </a:xfrm>
          <a:custGeom>
            <a:avLst/>
            <a:gdLst>
              <a:gd name="textAreaLeft" fmla="*/ 114840 w 2352600"/>
              <a:gd name="textAreaRight" fmla="*/ 2237760 w 2352600"/>
              <a:gd name="textAreaTop" fmla="*/ 114840 h 4559400"/>
              <a:gd name="textAreaBottom" fmla="*/ 4444560 h 4559400"/>
            </a:gdLst>
            <a:ahLst/>
            <a:rect l="textAreaLeft" t="textAreaTop" r="textAreaRight" b="textAreaBottom"/>
            <a:pathLst>
              <a:path w="21600" h="41858">
                <a:moveTo>
                  <a:pt x="3600" y="0"/>
                </a:moveTo>
                <a:arcTo wR="3600" hR="3600" stAng="16200000" swAng="-5400000"/>
                <a:lnTo>
                  <a:pt x="0" y="38258"/>
                </a:lnTo>
                <a:arcTo wR="3600" hR="3600" stAng="10800000" swAng="-5400000"/>
                <a:lnTo>
                  <a:pt x="18000" y="41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bilansują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Szanse i zagrożenia dla elektrowni wodnych wynikające ze zmian na rynku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5FDB-B830-4C31-9836-404D1E6D60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prowadzenie – wyznaczniki rynków energii w Polsce w perspektywie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lat 2016 – 20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usług syste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owe możliwości dla elektrowni wod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AutoShape 13"/>
          <p:cNvSpPr/>
          <p:nvPr/>
        </p:nvSpPr>
        <p:spPr>
          <a:xfrm>
            <a:off x="623880" y="1430280"/>
            <a:ext cx="2352600" cy="4559400"/>
          </a:xfrm>
          <a:custGeom>
            <a:avLst/>
            <a:gdLst>
              <a:gd name="textAreaLeft" fmla="*/ 114840 w 2352600"/>
              <a:gd name="textAreaRight" fmla="*/ 2237760 w 2352600"/>
              <a:gd name="textAreaTop" fmla="*/ 114840 h 4559400"/>
              <a:gd name="textAreaBottom" fmla="*/ 4444560 h 4559400"/>
            </a:gdLst>
            <a:ahLst/>
            <a:rect l="textAreaLeft" t="textAreaTop" r="textAreaRight" b="textAreaBottom"/>
            <a:pathLst>
              <a:path w="21600" h="41858">
                <a:moveTo>
                  <a:pt x="3600" y="0"/>
                </a:moveTo>
                <a:arcTo wR="3600" hR="3600" stAng="16200000" swAng="-5400000"/>
                <a:lnTo>
                  <a:pt x="0" y="38258"/>
                </a:lnTo>
                <a:arcTo wR="3600" hR="3600" stAng="10800000" swAng="-5400000"/>
                <a:lnTo>
                  <a:pt x="18000" y="41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bilansują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aktyczny” udział małych elektrowni wodnych (nJWCD)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 rynku bilansującym i rynku usług system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7518-C8AD-4842-8CBC-BC89310BCE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3"/>
          <p:cNvSpPr/>
          <p:nvPr/>
        </p:nvSpPr>
        <p:spPr>
          <a:xfrm>
            <a:off x="4921200" y="549360"/>
            <a:ext cx="3322800" cy="6048360"/>
          </a:xfrm>
          <a:custGeom>
            <a:avLst/>
            <a:gdLst>
              <a:gd name="textAreaLeft" fmla="*/ 60840 w 3322800"/>
              <a:gd name="textAreaRight" fmla="*/ 3261960 w 3322800"/>
              <a:gd name="textAreaTop" fmla="*/ 60840 h 6048360"/>
              <a:gd name="textAreaBottom" fmla="*/ 5987520 h 6048360"/>
            </a:gdLst>
            <a:ahLst/>
            <a:rect l="textAreaLeft" t="textAreaTop" r="textAreaRight" b="textAreaBottom"/>
            <a:pathLst>
              <a:path w="21600" h="39316">
                <a:moveTo>
                  <a:pt x="1354" y="0"/>
                </a:moveTo>
                <a:arcTo wR="1354" hR="1354" stAng="16200000" swAng="-5400000"/>
                <a:lnTo>
                  <a:pt x="0" y="37962"/>
                </a:lnTo>
                <a:arcTo wR="1354" hR="1354" stAng="10800000" swAng="-5400000"/>
                <a:lnTo>
                  <a:pt x="20246" y="39316"/>
                </a:lnTo>
                <a:arcTo wR="1354" hR="1354" stAng="5400000" swAng="-5400000"/>
                <a:lnTo>
                  <a:pt x="21600" y="1354"/>
                </a:lnTo>
                <a:arcTo wR="1354" hR="1354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usług system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Pięciokąt 1"/>
          <p:cNvGrpSpPr/>
          <p:nvPr/>
        </p:nvGrpSpPr>
        <p:grpSpPr>
          <a:xfrm>
            <a:off x="712800" y="1700280"/>
            <a:ext cx="2279520" cy="1116000"/>
            <a:chOff x="712800" y="1700280"/>
            <a:chExt cx="2279520" cy="1116000"/>
          </a:xfrm>
        </p:grpSpPr>
        <p:pic>
          <p:nvPicPr>
            <p:cNvPr id="608" name="Pięciokąt 1" descr=""/>
            <p:cNvPicPr/>
            <p:nvPr/>
          </p:nvPicPr>
          <p:blipFill>
            <a:blip r:embed="rId1"/>
            <a:stretch/>
          </p:blipFill>
          <p:spPr>
            <a:xfrm>
              <a:off x="712800" y="1700280"/>
              <a:ext cx="22795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774720" y="1736640"/>
              <a:ext cx="19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Calibri"/>
                </a:rPr>
                <a:t>Dlaczego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Pagon 9"/>
          <p:cNvGrpSpPr/>
          <p:nvPr/>
        </p:nvGrpSpPr>
        <p:grpSpPr>
          <a:xfrm>
            <a:off x="3303720" y="1700280"/>
            <a:ext cx="4078080" cy="1189080"/>
            <a:chOff x="3303720" y="1700280"/>
            <a:chExt cx="4078080" cy="1189080"/>
          </a:xfrm>
        </p:grpSpPr>
        <p:pic>
          <p:nvPicPr>
            <p:cNvPr id="611" name="Pagon 9" descr=""/>
            <p:cNvPicPr/>
            <p:nvPr/>
          </p:nvPicPr>
          <p:blipFill>
            <a:blip r:embed="rId2"/>
            <a:stretch/>
          </p:blipFill>
          <p:spPr>
            <a:xfrm>
              <a:off x="3303720" y="1700280"/>
              <a:ext cx="4078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3908520" y="1736640"/>
              <a:ext cx="28796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Jedynym nabywcą usług systemowych jest OSP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Pagon 10"/>
          <p:cNvGrpSpPr/>
          <p:nvPr/>
        </p:nvGrpSpPr>
        <p:grpSpPr>
          <a:xfrm>
            <a:off x="4925880" y="2981160"/>
            <a:ext cx="835200" cy="809640"/>
            <a:chOff x="4925880" y="2981160"/>
            <a:chExt cx="835200" cy="809640"/>
          </a:xfrm>
        </p:grpSpPr>
        <p:pic>
          <p:nvPicPr>
            <p:cNvPr id="614" name="Pagon 10" descr=""/>
            <p:cNvPicPr/>
            <p:nvPr/>
          </p:nvPicPr>
          <p:blipFill>
            <a:blip r:embed="rId3"/>
            <a:stretch/>
          </p:blipFill>
          <p:spPr>
            <a:xfrm>
              <a:off x="4925880" y="298116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 rot="5400000">
              <a:off x="4996440" y="3007440"/>
              <a:ext cx="70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Pagon 13"/>
          <p:cNvGrpSpPr/>
          <p:nvPr/>
        </p:nvGrpSpPr>
        <p:grpSpPr>
          <a:xfrm>
            <a:off x="2786040" y="3902040"/>
            <a:ext cx="5803920" cy="1187640"/>
            <a:chOff x="2786040" y="3902040"/>
            <a:chExt cx="5803920" cy="1187640"/>
          </a:xfrm>
        </p:grpSpPr>
        <p:pic>
          <p:nvPicPr>
            <p:cNvPr id="617" name="Pagon 13" descr=""/>
            <p:cNvPicPr/>
            <p:nvPr/>
          </p:nvPicPr>
          <p:blipFill>
            <a:blip r:embed="rId4"/>
            <a:stretch/>
          </p:blipFill>
          <p:spPr>
            <a:xfrm>
              <a:off x="2786040" y="3902040"/>
              <a:ext cx="5803920" cy="11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384720" y="3940200"/>
              <a:ext cx="4608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Małe elektrownie wodn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są za „małe” i jest ich „za dużo”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są zbyt „oddalone” od sieci przesyłowej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457200" y="98064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Ścisłe powiązanie rynku usług systemowych z rynkiem bilansującym – od strony regulaminowej, podmiotowej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organizacyjnej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ktycznie ogranicza zakres podmiotowy dostawców usług systemowych do uczestników rynku bilansującego (URB)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ilansowanie handlowego wszystkich odbiorców w KSE poprzez centralny mechanizmu bilansowan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ktycznie przenosi bilansowanie handlowe odbiorców energi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rynek bilansują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ikwiduje lokalne rynki energi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niechęca i uniemożliwia samo bilansowanie się uczestników rynku energi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Dlaczego rynek usług systemowych taki jest?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AB90-71C5-47C0-91BB-F54865E422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ole tekstowe 7"/>
          <p:cNvSpPr/>
          <p:nvPr/>
        </p:nvSpPr>
        <p:spPr>
          <a:xfrm>
            <a:off x="457200" y="6165720"/>
            <a:ext cx="62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* Poza usługą GWS i odbudowy KSE – ale też ogranicza te usług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457200" y="98064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rbitralne wskazanie* OSP jako jedynego nabywcę usług systemowy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niemożliwia innym podmiotom nabywania usług systemowy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woduje brak zainteresowani nabywaniem usług przez OS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granicza katalog usług systemowych tylko do usług niezbędnych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la OSP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aworyzowanie” niesterowalnych OZE (wiatrowych i foto-woltaicznych) i nieobciążanie ich skutkami zmienności dostępności zdolności wytwórcz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zainteresowania przez OZE usługami magazynowaniem energi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Dlaczego rynek usług systemowych taki jest?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E72E-67C1-4F0C-94FB-268B8060D6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7"/>
          <p:cNvSpPr/>
          <p:nvPr/>
        </p:nvSpPr>
        <p:spPr>
          <a:xfrm>
            <a:off x="457200" y="6165720"/>
            <a:ext cx="62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* W rozporządzeniu „systemowym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akresie katalogu usług systemowy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sług które zniknęły z katalog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p. kompensacja mocy biern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owych usłu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gazynowania energi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amo bilansowania uczestników energ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lansowania obszarow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akresie nabywców usług systemowy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owych nabywców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eratorzy systemów dystrybucyjnych (OS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sterowalne OZE (wiatrowe i fotowoltaiczn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gregatorzy samo bilansow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gregatorzy obszarow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Czego brak w obecnym rynku usług systemowych?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E21E-EC07-455F-98AC-3D9A4C6EDF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akresie zasad nabywania usług systemowy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elastycznienia zasad nabywania usłu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ikwidacja powiązania świadczenia usług systemowych tylk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 rynkiem bilansujący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ejście od przydzielania usług do JWCD i nJWC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bywanie usług systemowych przez OSP „z drugiej ręki”*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od agregatorów samo bilansowania i agregatorów obszarow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akresie stabilizacji pracy niesterowalnych OZE (wiatrowych i fotowoltaicznych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mowania stabilnych O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gazynowanie energi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Czego brak w obecnym rynku usług systemowych?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98D7-FBB2-4292-A0AA-F26B663099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ole tekstowe 7"/>
          <p:cNvSpPr/>
          <p:nvPr/>
        </p:nvSpPr>
        <p:spPr>
          <a:xfrm>
            <a:off x="457200" y="6165720"/>
            <a:ext cx="62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* Obecnie jest to realizowane w usłudze redukcja zapotrzebowania na polecenie OS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agazynowanie energ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oste: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gazynowanie wody i maksymalizacja pracy w szczytach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potrzebow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one: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bór energii z KSE w dolinach na pompowanie wod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eneracja energii w szczytach zapotrzebowania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ługa magazynowania energii na potrzeby stabilizacji niesterowalnych OZE (wiatrowych i fotowoltaicznyc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cja energii na potrzeby samo bilansowanie odbiorc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stępowanie z własnymi zasobami wytwórczymi jak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gregatorzy samo bilansow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gregatorzy obszarow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662472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zyszłościowe usługi systemowe, które mogą być oferowane przez elektrownie wod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8F8B-2D0C-49CA-95FF-B6C4E178CD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AutoShape 13"/>
          <p:cNvSpPr/>
          <p:nvPr/>
        </p:nvSpPr>
        <p:spPr>
          <a:xfrm>
            <a:off x="457200" y="2060640"/>
            <a:ext cx="8229600" cy="3600360"/>
          </a:xfrm>
          <a:prstGeom prst="roundRect">
            <a:avLst>
              <a:gd name="adj" fmla="val 804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agazynowanie energ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oste: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gazynowanie wody i maksymalizacja pracy w szczytach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potrzebowan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one: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bór energii z KSE w dolinach na pompowanie wod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eneracja energii w szczytach zapotrzebowania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ługa magazynowania energii na potrzeby stabilizacji niesterowalnych OZE (wiatrowych i fotowoltaicznyc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cja energii na potrzeby samo bilansowanie odbiorc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stępowanie z własnymi zasobami wytwórczymi jak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gregatorzy samo bilansow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gregatorzy obszarow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662472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zyszłościowe usługi systemowe – ogranicze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8D5C-EAE4-41AF-A30B-6DEB2FD45D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Objaśnienie ze strzałką w dół 9"/>
          <p:cNvGrpSpPr/>
          <p:nvPr/>
        </p:nvGrpSpPr>
        <p:grpSpPr>
          <a:xfrm>
            <a:off x="4187880" y="676440"/>
            <a:ext cx="4651200" cy="907920"/>
            <a:chOff x="4187880" y="676440"/>
            <a:chExt cx="4651200" cy="907920"/>
          </a:xfrm>
        </p:grpSpPr>
        <p:pic>
          <p:nvPicPr>
            <p:cNvPr id="660" name="Objaśnienie ze strzałką w dół 9" descr=""/>
            <p:cNvPicPr/>
            <p:nvPr/>
          </p:nvPicPr>
          <p:blipFill>
            <a:blip r:embed="rId1"/>
            <a:stretch/>
          </p:blipFill>
          <p:spPr>
            <a:xfrm>
              <a:off x="4187880" y="676440"/>
              <a:ext cx="46512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4246560" y="716040"/>
              <a:ext cx="45385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Calibri"/>
                </a:rPr>
                <a:t>Wymagane działania wewnętrzne elektrowni wod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Objaśnienie ze strzałką w górę 10"/>
          <p:cNvGrpSpPr/>
          <p:nvPr/>
        </p:nvGrpSpPr>
        <p:grpSpPr>
          <a:xfrm>
            <a:off x="2097000" y="5626080"/>
            <a:ext cx="4657680" cy="824040"/>
            <a:chOff x="2097000" y="5626080"/>
            <a:chExt cx="4657680" cy="824040"/>
          </a:xfrm>
        </p:grpSpPr>
        <p:pic>
          <p:nvPicPr>
            <p:cNvPr id="663" name="Objaśnienie ze strzałką w górę 10" descr=""/>
            <p:cNvPicPr/>
            <p:nvPr/>
          </p:nvPicPr>
          <p:blipFill>
            <a:blip r:embed="rId2"/>
            <a:stretch/>
          </p:blipFill>
          <p:spPr>
            <a:xfrm>
              <a:off x="2097000" y="5626080"/>
              <a:ext cx="465768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2158920" y="5911920"/>
              <a:ext cx="45388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Calibri"/>
                </a:rPr>
                <a:t>Wymagane zmiany rozwiązań praw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ecne regulacje prawne nie są przystosowane do funkcjonowania magazynów energii, gdzie energ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„na chwilę” pobierana z KSE, by ponownie ją wprowadzić do KS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 pewnym czasie (elektrownie szczytowo-pompowe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generowana przez źródła wytwórcze, pobierana „na chwilę”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magazynu, by ponownie ją wprowadzić do KSE po pewnym czasie (współpraca elektrowni wodnych i niesterowalnych OZ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662472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Magazynowanie energii – ograniczenia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E916-6F81-47B9-8817-759087D79B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szty usługi przesyłu lub dystrybucji obciążają tylko odbiorcę energii elektrycznej - rozumianego, jako podmiot, który pobiera (nawet tylko chwilowo) energię z sie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ład opłat za usługę przesyłu lub dystrybucji, obciążających odbiorców końcowych, wchodz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łata jakościowa – na pokrycie kosztów zakupu usług systemowy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łata przejściowa – wynikająca z rozwiązania kontraktów długoterminowy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szłości, opłata OZE - wynikająca z kosztów aukcji na źródła OZ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biorca ponosi też koszty akcyzy nałożonej na energię elektryczn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662472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Magazynowanie energii – ograniczenia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51FE-9791-40D4-A319-EBE635C32F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ewnętrz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stosowanie elektrowni do możliwości intensywnej pracy szczytow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budowywanie członów pomp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worzenie wirtualnych elektrowni złożonych z wielu małych elektrowni wodnych i oferowanie „dużych” porcji usłu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wnętrz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worzenie „nacisku” na OSP na modernizowanie i rozszerzanie rynku usług system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worzenie „nacisku” na ustawodawcę w celu zmiany regulacji prawnych umożliwiających świadczenie nowych usług systemowych (szczególnie usługi magazynowania energi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813744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Działania zmierzające do zwiększenia uczestnictwa elektrowni wodnych w rynku usług system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14E2-6CC6-40C2-9765-0AFDAF5668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Szanse i zagrożenia dla elektrowni wodnych wynikające ze zmian na rynku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4729-A4F9-403A-881C-5BA5DEA972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prowadzenie – wyznaczniki rynków energii w Polsce w perspektywie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lat 2016 – 20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usług syste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Nowe możliwości dla elektrowni wod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Szanse i zagrożenia dla elektrowni wodnych wynikające ze zmian na rynku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3223-3452-4B64-8558-E5AEF3C288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Wprowadzenie – wyznaczniki rynków energii w Polsce w perspektywie</a:t>
            </a:r>
            <a:br>
              <a:rPr sz="2000"/>
            </a:b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lat 2016 – 20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usług syste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Nowe możliwości dla elektrowni wod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stawowe problemu jednotowarowych rynków energi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issing money”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dnostki wytwórcze nie chcą uczestniczyć w rynku, na skutek braku pokrycia wszystkich kosztów na konkurencyjnym rynku energii elektryczn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issing capacity”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zdolności wytwórczych wynikający z braku inwestycji w nowe moce wytwórcze, spowodowanych niskimi cenami energii elektrycznej na zliberalizowanym rynku, na którym elektrownie nie są w stanie uzyskać zwrotu z inwestycji w nowe moce wytwórcz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Dlaczego jest potrzebny rynek mocy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9E5B-35A2-4E5A-8906-6E73F5C4F5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ziałania doraź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iana zasad zakupu operacyjnych rezerw mocy od 1 stycznia 2014 rok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rowadzenie zakupu interwencyjnej rezerwy zimnej na okres 2-4 lat od 1 stycznia 2016 rok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jęcie kilku decyzji inwestycyjnych przez Skarb Państwa jako dominującego akcjonariusza w Grupach Energetycz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ziałania doraźne poprawiły sytuację, ale konieczne są głębsze zmiany w rynku energi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Działania doraźne i ich skutecznoś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289C-0DA0-4136-A9EF-28C2BF2A91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ziałania długofal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ałania zmierzają do wypracowania nowej struktury rynku mo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la jednostek wytwórczych istniejących – rynek mo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la jednostek nowobudowanych – kontrakty różnicow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wa rozwiązania rynku mo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centralizowany rynek mo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decentralizowany rynek mo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Działania długofalowe i warianty rozwiąza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096D-EB31-40A4-BB2F-8F4DC7F567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owarem jest moc dyspozycyjna certyfikowanych jednostek wytwórczych w roku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wolumen określany wg prognoz akceptowanych przez Ministra Gospodark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ces certyfikacji jednostek wytwórczych oraz oferujących redukcję obciążenia prowadzą OSP i OSD zgodnie z ustalonymi standardam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rzedającymi są operatorzy jednostek wytwórczych oraz podmioty oferujące redukcje obciążeń (DSR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dynym kupującym jest operator systemu przesyłowego (OSP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stawowy zakup w roku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-4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poprzez aukcję typu notowania jednolite (fixing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nek wtórny – transakcje między operatorami jednostek wytwórcz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wiązanie się z dostaw umownych ilości mocy jest sprawdzane, niedotrzymania są kara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szty zakupu mocy OSP pokrywa z opłat taryfowych płaconych za usługę mocową przez odbiorców końcowych proporcjonalnie do mocy (zamówionej, maksymalnej pobranej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żliwe przedłużenie kontraktu rocznego na 5 lub 10 lat dla jednostek zmodernizowanych lub nowyc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Scentralizowany rynek mocy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038E-FED9-44FE-B82F-AFB8526079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Scentralizowany rynek mocy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446C-CEE0-4E83-9296-0C903B0A52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Obraz 7" descr=""/>
          <p:cNvPicPr/>
          <p:nvPr/>
        </p:nvPicPr>
        <p:blipFill>
          <a:blip r:embed="rId1"/>
          <a:stretch/>
        </p:blipFill>
        <p:spPr>
          <a:xfrm>
            <a:off x="468360" y="855720"/>
            <a:ext cx="7848720" cy="5057640"/>
          </a:xfrm>
          <a:prstGeom prst="rect">
            <a:avLst/>
          </a:prstGeom>
          <a:ln w="0">
            <a:noFill/>
          </a:ln>
        </p:spPr>
      </p:pic>
      <p:sp>
        <p:nvSpPr>
          <p:cNvPr id="720" name="pole tekstowe 8"/>
          <p:cNvSpPr/>
          <p:nvPr/>
        </p:nvSpPr>
        <p:spPr>
          <a:xfrm>
            <a:off x="536400" y="6237360"/>
            <a:ext cx="815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Arial"/>
              </a:rPr>
              <a:t>Źródło: Stanisław Poręba, Maciej Przybylski, „Rynek mocy – model dla Polski”. Konferencja: Rynek mocy – Rozwiązanie dla Polski?, Polski Komitet Światowej Rady Energetycznej, Warszawa, 29 października 2014 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owarem jest moc dyspozycyjna certyfikowanych jednostek wytwórczych w roku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wolumen określany wg prognoz akceptowanych przez Ministra Gospodark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ces certyfikacji jednostek wytwórczych oraz oferujących redukcję obciążenia prowadzą OSP i OSD zgodnie z ustalonymi standardam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rzedającymi są operatorzy jednostek wytwórczych i jednostki oferujące redukcje obciążeń, którzy rejestrują na TGE prawa majątkowe związane z oferowana moc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upującymi są podmioty zobowiązane – odbiorcy końcowi hurtowi lub sprzedający energie odbiorcom końcowym. Handel odbywa się dwustronnie (kontrakty bilateralne) lub na TGE w różnych formach; brak zakup jest obłożony sankcja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stawowy zakup w roku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-4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w dowolnych formach, podobnie obrót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 rynku wtórnym z udziałem pośrednik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wiązanie się z dostaw umownych ilości mocy jest sprawdzane, niedotrzymania są karane przez URE, które umarza świadectwa mocow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SP uczestniczy w rynku na zasadzie zamykającego bilans mocy, kupuje moc dla przyszłych odbiorców i tych którzy nie wywiązali się z obowiązku, koszty zakupu przenosi na te podmio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Zdecentralizowany rynek mocy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974D-6083-4D05-B43D-1841BD0D69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Zdecentralizowany rynek mocy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73E5-CDBC-4EC4-85BF-C59F8D0449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ole tekstowe 8"/>
          <p:cNvSpPr/>
          <p:nvPr/>
        </p:nvSpPr>
        <p:spPr>
          <a:xfrm>
            <a:off x="536400" y="6237360"/>
            <a:ext cx="815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Arial"/>
              </a:rPr>
              <a:t>Źródło: Stanisław Poręba, Maciej Przybylski, „Rynek mocy – model dla Polski”. Konferencja: Rynek mocy – Rozwiązanie dla Polski?, Polski Komitet Światowej Rady Energetycznej, Warszawa, 29 października 2014 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Obraz 9" descr=""/>
          <p:cNvPicPr/>
          <p:nvPr/>
        </p:nvPicPr>
        <p:blipFill>
          <a:blip r:embed="rId1"/>
          <a:stretch/>
        </p:blipFill>
        <p:spPr>
          <a:xfrm>
            <a:off x="515880" y="855720"/>
            <a:ext cx="80168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eny kontraktowe powinny zapewnić opłacalność inwestycji i są ustalan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uwzględnieniem wszystkich przychodów wytwórców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lanuje się wprowadzenie następujących uwarunkowań działania planowanych kontraktów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bór okresu kontraktowego tak, aby zapewnić stabilizację cen w podstawowym okresie obsługi kapitału 10 – 35 l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ena kontraktowa będzie ustalana w poziomie cen danego roku i będzie indeksowana w kolejnych latach wskaźnikami zależnymi od inflacji, kursu wymiany, kosztów eksploatacyjnych, it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or/operator jednostki objętej kontraktem różnicowym normalnie funkcjonuje na rynku oraz prowadzi rozliczenia różnicowe z drugą stroną kontraktu różnicowe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troną kontraktów różnicowych będzie spółka celowa – Zarządca Rozliczeń Różnicowych S. 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y cenach rynkowych niższych niż cena kontraktowa, wytwórca otrzymuje różnicę, w sytuacji odwrotnej oddaje część przychodów rynkowych wynikającą z różnicy c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Nowe moce wytwórcze – kontrakty różnicow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F6B3-70BC-4DCC-8C72-1BB390FDE8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kazanie materiałów do zmian w regulacjach do Ministerstwa Gospodar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ce w Ministerstwie Gospodarki, opracowanie pierwszej wersji projektów ustawy i rozporządzeń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lne projekty zmian, skierowanie projektu do Sejmu i do uzgodnień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 Komisją Europejsk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ierwsze wersje IRiESP i IRiES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kończenie procesu legislacji, uzyskanie akceptacji Komisji Europejski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rowadzenie zmian do IRiESP i IRiES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jęcie i formalne zatwierdzenie raportu dotyczącego prognoz zapotrzebowania na moc i krzywe popytowo-cenowe na pierwszy rok obowiązywania rynku mocy, zakończenie pierwszego procesu certyfikacji jednostek wytwórcz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kończenie zakupu mocy dyspozycyjnej na określony ro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Nowe moce wytwórcze – kontrakty różnicowe – plan działa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C7C0-EE99-42F2-BBF4-8553911D62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980640"/>
            <a:ext cx="8578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zrost zagrożenie utraty bezpieczeństwa dostaw energii elektrycznej w Pols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arzejąca się baza wytwórcza – wyłączanie z  ruchu źródeł wyeksploatowanych i nie spełniających norm ekologicz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wój dotowanych, niesterowalnych OZE (głównie elektrowni wiatrowych, w przyszłości fotowoltaicznych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pieranie z pracy źródeł konwencjonalnych w okresach wietrzny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y słoneczn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rak generacji w okresach bezwietrznych i bezsłoneczn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niżanie cen energii elektryczne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blem finasowania budowy nowych mocy wytwórczyc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udowa nowych jednostek wytwórczych dla domknięcia bilansu moc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perspektywie roku 2020 – z bardzo dużym ryzykiem opłacalności inwestycj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rak perspektyw budowy jednostek wytwórczych dla domknięcia bilansu mocy po roku 202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Bilans mocy i bezpieczeństwo pracy K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Wyznaczniki rynków energii w Polsce w perspektywie lat 2016 – 2030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5023-24F6-4B74-B22F-84D902F927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ecnie trudno wyrokować o ostatecznym kształcie rynku moc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liwy do wprowadzenia w latach 2019 – 202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liczanie na rynku mocy w latach 2023 – 202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ecne rozwiązania w zakresie kształtu usługi operacyjnej rezerwy mocy, są elementami przygotowywanego rynku mo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sługa operacyjnej rezerwy mocy jaki i rynek mocy maja ten sam cel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dostarczyć wytwórcom środków na utrzymanie i rozbudowę bazy wytwórczej energii elektryczn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 roku 2019 należy spodziewać się rozliczania rezerw mocy w ramach mechanizmu operacyjnej rezerwy mo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atrząc na usługę operacyjnej rezerwy mocy – jako element przyszłego rynku mocy – dobrą strategią przygotowania się do tego rynku, jest posiadanie źródeł wytwórczych świadczących taką usługę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Rynek mocy – kiedy i jaki będzi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CBC3-BDAF-4D94-A762-55E8BDDE29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Szanse i zagrożenia dla elektrowni wodnych wynikające ze zmian na rynku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A3EA-C860-462B-91BD-77EDB988D7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Wprowadzenie – wyznaczniki rynków energii w Polsce w perspektywie</a:t>
            </a:r>
            <a:br>
              <a:rPr sz="2000"/>
            </a:b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lat 2016 – 20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usług syste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owe możliwości dla elektrowni wod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640872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dukty i usługi możliwe do oferowania przez elektrownie wodne w przyszłośc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Nowe możliwości dla elektrowni wodn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1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4E75-899C-4D81-8673-BAAB75EECA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611280" y="987480"/>
          <a:ext cx="7993080" cy="5240160"/>
        </p:xfrm>
        <a:graphic>
          <a:graphicData uri="http://schemas.openxmlformats.org/drawingml/2006/table">
            <a:tbl>
              <a:tblPr/>
              <a:tblGrid>
                <a:gridCol w="5256000"/>
                <a:gridCol w="273708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kt, usłu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ergia elektrycz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energii elektrycznej (RE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mocy (R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gazynowanie energii dla wsparcia elektrowni fotowoltaicznych (OZE</a:t>
                      </a:r>
                      <a:r>
                        <a:rPr b="0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wy rynek usług systemowych (NRU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gazynowanie energii dla wyrównywania pracy elektrowni wiatrowych (OZE</a:t>
                      </a:r>
                      <a:r>
                        <a:rPr b="0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o bilansowanie grup zakupowych odbiorcó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o bilansowanie grup bilansujących (odbiorców, rozproszonych wytwórców, sterowanych odbioró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o bilansowanie obszarów sieciowych np.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ałęzie nn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ałęzie SN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PZ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ałęzie i sekcje 110 k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457200" y="98064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uczem do oferowania nowych produktów i usług jest stworzenie przez elektrownie wodne możliwości do „zintegrowanego gospodarowania” energią („wody*” i elektryczną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lementy „zintegrowanego gospodarowania” energi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dolność do magazynowanie energii wody i wykorzystywania jej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produkcji energii elektrycznej w momencie świadczenia usługi, wymagające często zmian w pozwoleniach środowiskowy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dolność do przemiany energii elektrycznej w energię wod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ponownie w energię elektryczną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posażenie w systemy IT zarządzające „zintegrowanym gospodaro-waniem” energią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siadanie podmiotów współpracujących: elektrowni fotowoltaicznych (OZ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), elektrowni wiatrowych (OZ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Calibri"/>
              </a:rPr>
              <a:t>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), sterowanych odbiorów, grup bilansując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481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arunki oferowania produktów i usługi przez elektrownie wodne w przyszłości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Nowe możliwości dla elektrowni wodn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839B-7C6F-454A-BAF9-5C29EC29CE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ole tekstowe 7"/>
          <p:cNvSpPr/>
          <p:nvPr/>
        </p:nvSpPr>
        <p:spPr>
          <a:xfrm>
            <a:off x="457200" y="6319800"/>
            <a:ext cx="850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* „Energia wody” – energia zmagazynowana w wodzie, możliwa do zamiany na energię elektryczną w chwili świadczenia usług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457200" y="98064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uczem do oferowania nowych produktów i usług przez elektrownie wodne, po stronie zarzadzania KSE s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tworzenie możliwości istnieni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ynku mocy (najlepiej w wersji zdecentralizowanej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okalnych rynków energii elektryczn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owego rynku usług systemowych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amo bilansowania uczestników rynku energii (poprzez grupy bilansujące i samo dysponują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ystępowani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źródeł fotowoltaicznych prosumenckich (dachowych i przydomowych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źródeł wiatrowych zainteresowanych stabilizacją swojej generac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interesowania OSD optymalizacją pracy sieci dystrybucyjnej przy współpracy z uczestnikami ryn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481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arunki oferowania produktów i usługi przez elektrownie wodne w przyszłości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Nowe możliwości dla elektrowni wodn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44FA-5420-421C-8B40-58AFB9D48A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785016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dukty i usługi możliwe do oferowania przez poszczególne typy elektrowni wodnych w przyszłości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Nowe możliwości dla elektrowni wodn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0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A233-1AE9-4621-B0CD-A60A4F0BA8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468360" y="836640"/>
          <a:ext cx="8424720" cy="5272200"/>
        </p:xfrm>
        <a:graphic>
          <a:graphicData uri="http://schemas.openxmlformats.org/drawingml/2006/table">
            <a:tbl>
              <a:tblPr/>
              <a:tblGrid>
                <a:gridCol w="1239840"/>
                <a:gridCol w="1495440"/>
                <a:gridCol w="1439640"/>
                <a:gridCol w="1465560"/>
                <a:gridCol w="1392120"/>
                <a:gridCol w="1392120"/>
              </a:tblGrid>
              <a:tr h="85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yp elektrow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żliwość „zintegrowanego gospodarowania” energi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dział w rynk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runki niezbęd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zycho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Środki na utrzymanie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rozwó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W przepływ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kcja energii elektryczn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s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 rynku energii i dotac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W z piętrzeni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k, obecnie mał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 zmianach śred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wy rynek 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prowadzenie nowego rynku U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prowadzenie rynku 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skie -&gt; śred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 rynku energii, usług i 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13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W z piętrzeni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k, śred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wy rynek US Magazynowanie energii dla wsparcia OZE</a:t>
                      </a:r>
                      <a:r>
                        <a:rPr b="0" lang="pl-PL" sz="1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zwój OZE</a:t>
                      </a:r>
                      <a:r>
                        <a:rPr b="0" lang="pl-PL" sz="1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prosumenckich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prowadzenie nowego rynku U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prowadzenie rynku 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Średnie -&gt; wyso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 rynku energii, usług i 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gazynowanie energii dla wyrównywania pracy OZE</a:t>
                      </a:r>
                      <a:r>
                        <a:rPr b="0" lang="pl-PL" sz="1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zbudowa o człony pompow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E</a:t>
                      </a:r>
                      <a:r>
                        <a:rPr b="0" lang="pl-PL" sz="1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zainteresowane stabilizacją gener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785016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dukty i usługi możliwe do oferowania przez poszczególne typy elektrowni wodnych w przyszłości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Nowe możliwości dla elektrowni wodn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EB20-B35E-4451-A7F9-B8FD574F09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468360" y="1697040"/>
          <a:ext cx="8424720" cy="1660680"/>
        </p:xfrm>
        <a:graphic>
          <a:graphicData uri="http://schemas.openxmlformats.org/drawingml/2006/table">
            <a:tbl>
              <a:tblPr/>
              <a:tblGrid>
                <a:gridCol w="1239840"/>
                <a:gridCol w="1495440"/>
                <a:gridCol w="1512720"/>
                <a:gridCol w="1392480"/>
                <a:gridCol w="1392120"/>
                <a:gridCol w="1392120"/>
              </a:tblGrid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yp elektrow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żliwość „zintegrowanego gospodarowania” energi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dział w rynk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runki niezbęd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zycho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Środki na utrzymanie i rozwó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k, duż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wy rynek 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ż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 rynku energii</a:t>
                      </a:r>
                      <a:r>
                        <a:rPr b="0" lang="pl-PL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ług i 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wy rynek US Rynek moc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we jednostki wytwórc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763416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zykładowe roczne przychody z rynku energii i rynku mo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Nowe możliwości dla elektrowni wodn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3EEE-66C3-44C4-B655-1B4EB96072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547560" y="1484280"/>
          <a:ext cx="8136000" cy="4587840"/>
        </p:xfrm>
        <a:graphic>
          <a:graphicData uri="http://schemas.openxmlformats.org/drawingml/2006/table">
            <a:tbl>
              <a:tblPr/>
              <a:tblGrid>
                <a:gridCol w="2159280"/>
                <a:gridCol w="2009520"/>
                <a:gridCol w="396720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zychody jednostk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zykładowa 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7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 – 300 tys. zł/MW/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c 0,5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as wykorzystania 3 000 h/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EE – sprzedaż 100% w paśmie bez przychodów z RUS/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0 zł/M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0 000 zł/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44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EE – sprzedaż 30% w paśmi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0% w szczyc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Sprzedaż 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0 zł/M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0 zł/M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0 000 zł/MW/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7 500 zł/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763416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odsumowa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Nowe możliwości dla elektrowni wodn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E893-9B2E-47F2-839F-3DCD8F24B9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owe możliwości dla elektrowni wodnych są uwarunkowa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ewnętrz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prowadzeniem „zintegrowanego gospodarowania” energi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maksymalizacja magazynowania energii wod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arządzanie generacją energii elektrycznej dla potrzeb lokalnych uczestników ryn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wnętrz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tworzenie w KSE nowych rynków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o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ług systemow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Szanse i zagrożenia dla elektrowni wodnych wynikające ze zmian na rynku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Symbol zastępczy daty 2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ymbol zastępczy stopki 3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ymbol zastępczy numeru slajdu 4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CAE2-4692-43F1-9372-91FBAA923A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ole tekstowe 11"/>
          <p:cNvSpPr/>
          <p:nvPr/>
        </p:nvSpPr>
        <p:spPr>
          <a:xfrm>
            <a:off x="2411280" y="1773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e46c0a"/>
                </a:solidFill>
                <a:latin typeface="Calibri"/>
              </a:rPr>
              <a:t>Dziękujemy za uwag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strykcyjne i często zmieniane regulacje unij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zybki rozwój niesterowalnych jednostek wytwórczych (głównie elektrowni wiatrowych i fotowoltaicznych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rak efektywnych mechanizmów stymulujące elastyczność popy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rak istotnych różnic w cenie energii w szczycie zapotrzebowania i poza nim sprzyja wzrostowi poboru szczyt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arunki funkcjonowania K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Wyznaczniki rynków energii w Polsce w perspektywie lat 2016 – 2030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EC11-6BE0-4C87-9CD7-EA494C0A7C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 roku 2020 po wyłączeniu eksploatacji kolejnych jednostek  wytwórczych, ujemny bilans mocy w KSE staje się problemem strukturalnym i występuje we wszystkich scenariusza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grożenie bezpieczeństwa dostaw energii wynika z niedostatecznego zbilansowania mocy wytwórczych z zapotrzebowaniem i/lub niewłaściwej struktury technologicznej moc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zyszłość K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Wyznaczniki rynków energii w Polsce w perspektywie lat 2016 – 2030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537D-6A29-45AA-8D37-F90A564120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Szanse i zagrożenia dla elektrowni wodnych wynikające ze zmian na rynku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088B-76A3-4BBF-913B-7F82EEC862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Wprowadzenie – wyznaczniki rynków energii w Polsce w perspektywie</a:t>
            </a:r>
            <a:br>
              <a:rPr sz="2000"/>
            </a:b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lat 2016 – 20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usług syste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Nowe możliwości dla elektrowni wod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eny hurtowe energii elektrycznej istotnie spadły w ostatnich trzech lata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niżenie tempa wzrostu gospodarczeg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ższe zapotrzebowanie na energię elektryczną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ybko rosnącego udziału dotowanej energii z elektrowni wiatr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kontraktach terminowych utrzymuje się bardzo niski poziom c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obna sytuacja utrzymuje się na rynkach w sąsiednich krajach (na rynku niemieckim, czeskim i słowack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odstawowy problem – niskie ceny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energii elektrycznej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55DC-3E6E-4422-88A9-6604F4CB45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lumen i średnia cena energii elektrycznej na TGE w latach 2008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odstawowy problem – niskie ceny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energii elektrycznej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B709-D0F8-41D7-9333-76A56E8F82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Chart 50293" descr=""/>
          <p:cNvPicPr/>
          <p:nvPr/>
        </p:nvPicPr>
        <p:blipFill>
          <a:blip r:embed="rId1"/>
          <a:stretch/>
        </p:blipFill>
        <p:spPr>
          <a:xfrm>
            <a:off x="1322280" y="1841400"/>
            <a:ext cx="6712200" cy="2889360"/>
          </a:xfrm>
          <a:prstGeom prst="rect">
            <a:avLst/>
          </a:prstGeom>
          <a:ln w="0">
            <a:noFill/>
          </a:ln>
        </p:spPr>
      </p:pic>
      <p:sp>
        <p:nvSpPr>
          <p:cNvPr id="482" name="Prostokąt 9"/>
          <p:cNvSpPr/>
          <p:nvPr/>
        </p:nvSpPr>
        <p:spPr>
          <a:xfrm>
            <a:off x="1274760" y="4724280"/>
            <a:ext cx="676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Źródło: TGE – stan na dzień 31.12.2013,według daty dostawy, dane za lata 2008-2013 na podstawie notowań z RDN, RTT i RDB, lata 2014-2016 na podstawie notowań z RTT, za E&amp;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4:37:53Z</dcterms:created>
  <dc:creator>Stanisław Poręba, Jan Rakowski</dc:creator>
  <dc:description>Wersja 2.0., 19 maja 2015 r.</dc:description>
  <dc:language>en-US</dc:language>
  <cp:lastModifiedBy>Admin</cp:lastModifiedBy>
  <dcterms:modified xsi:type="dcterms:W3CDTF">2015-05-21T20:05:25Z</dcterms:modified>
  <cp:revision>265</cp:revision>
  <dc:subject/>
  <dc:title>Prezentacja dla TEW</dc:title>
</cp:coreProperties>
</file>