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ytu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2948-08FC-4F6D-A64F-0D8A43FC7B3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508E-AB79-4082-BE1A-14F94B92E0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60A8-B3CB-4E7A-9594-8D8F4CCF32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6AFD-1075-4092-A37C-456BF1C4D01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tu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69F4-1587-4C38-83D7-8CFB9C50B3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7F4D-C33B-4AE4-B333-BFFBD297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4A1A-1621-45FC-9CF2-6BB56415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51458-65A5-47E5-8AAE-0636DABD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B34C7-6AA4-4433-B6DE-0B37FBC8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1776F-BF02-4097-986F-49197B06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BBF21-0D12-4D6F-9BE2-4FF2DC9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6584F-081D-4580-989A-49BEF03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AF8C8-2F8D-4F35-83EC-FD8E5BCF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26BA8-7E88-4E18-820E-1E4EA55A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0EF1F-BEBF-472C-83D6-89194274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A8C43-F320-4F5E-A0AF-C46545FF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C502-FFD6-4E1D-A684-A085468A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28CE-197E-475E-AC90-FF8B455F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9F67-978A-4DAF-8789-B0AD1906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884A-7B21-4519-9DE6-F71D831F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6A57-805A-48D5-B2E2-DBC736C0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C0D7-2218-40D4-9A72-FCF92416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40BF-63DD-4515-B12A-9D5271B1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02D4-5AFE-41EE-A35D-928A5E9B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E3A8-19FA-4915-ADB3-16A35302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69EF-B043-4CB8-9BF8-24D944BE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2786-DBC6-4F09-8301-E02EB777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3B08-3FC1-44A9-908A-86A286B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6984-21A9-4EB6-956C-4958EC57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53E0-12D6-4A03-8DD7-E2D05D38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3471-EA0B-497E-AF12-C36F849E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39C7-84F3-4A0C-B551-9A5467E2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A813F-AFC1-43EF-BC6B-8634850C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8D61-CBA3-44E3-9DAF-06F18DD9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E48C-7138-48D1-B135-24CE7C22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49EE-2369-4B76-86B2-228A9593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001B-2045-47F3-B1B9-FE548CA4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045A-F61D-4B88-9867-A3959D2D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24D28-705E-4679-90E2-69023C8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4AC0-A9D1-486D-B3CB-991D0C37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B401-1056-4475-BDB6-D594BC78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CD6AE-B61D-4201-BE9E-7BF0FBA8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8116-FBC4-4A00-A807-576EEBA0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325B-6324-4213-A17D-C30380FB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75A6-D7DB-4636-B514-6D81961E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A5E5-4FD5-423E-97B7-F16E55E8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65B0-CE51-4581-97FC-E75FBA2A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743B-2D60-4CD6-BAD9-F12111DE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3C5B-0C3B-4774-8DF4-B82725D8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ACE8-3545-45A1-9E15-8DE48F8B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0BFD-F60E-4121-912E-9DFE6D03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0E1DE-258F-444D-9607-59E61807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4D5C7-969E-42A6-9112-A6DD3791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B07A-31EE-4BCA-BBAE-2A0C301A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601A2-3B3F-4724-8D9D-0F26CA5A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56ED-ED0A-4C32-9FA6-E4B520FE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7F5D-69F3-45D1-BC6B-30E861CF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16E97-209C-42C6-AA31-86642332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0716-9EFA-479E-BC93-1F584075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265A-145B-45A6-B93B-C42E3537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2D49A-39E2-4985-82EE-D051351A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B033-0FF5-4919-848A-189BC71A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21CF2-ED85-42BF-8B37-2F957273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B4C52-2DB0-4AE8-B4B7-E74FE377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BF5D3-7136-4BD2-BED5-B72FD80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56A3-14DB-4013-9303-6AEF116D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7743F-C92B-4B7F-9102-269E20A8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C0C24-B88D-4066-94A2-AE1907B1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E0EF0-7AF5-4E1E-A8FC-6843CF79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FA0C-0E7A-4C7D-9344-0EA13EE1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FA299-63DB-49EF-AFB5-1C07F36B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DA3AC-8307-4AFB-ADC6-AC22391B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A41216-C482-4AE0-8BAA-F72C9D3B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9A0A07-BC5C-4CD5-80AB-F18F44FF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0B0EC5-CF26-4504-A1EF-C48F14DB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249DA-5D81-45E2-A5E8-9AB72371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81E8DD-C270-424B-97E9-4C08054E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816496-501A-43FB-B7C0-135937A4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78AC50-A3A3-4169-BA71-76772F62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A052E-01B4-4556-BB11-4F3AE310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14E5-44A7-4F81-9F3E-CD33AA2E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8BCA3E-B85F-4790-864C-B648182A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9377A3-B6F7-485B-A91D-E50A3977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1E2B23-8EEB-430D-B3A0-23FA2B72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BCA7EA-8F58-4C1F-9263-B58566CA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A288C4-1394-473B-ABF9-5D06A799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DB7FC3-B84D-4ECE-A539-ED0535DD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A86284-F472-4273-8013-C8EFB2C2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FCEE45-29AE-420B-B68F-E5E03854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99268D-F836-44FF-B039-7087FE58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FC72C7-70C7-46CC-AEF0-C10BEB49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4FE1-B068-40AD-AAC9-6CD37D63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4A845-C3D0-4F8B-91AB-C9B5704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39A60E-D6EE-4E82-ADE4-9E7D2885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331AA7-AB33-4C88-A7FE-4F8A9768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EEE739-E190-4D42-B0F8-EFA12713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F3C537-4DC5-462B-A6FE-C8CFACC1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4CF85-F6D3-48B6-99F2-F6E45F9D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EB46E-7046-4AEE-BDAA-18DDA11A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EF1AD-195A-47D9-BC72-FA23A2AF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19B95-5CA2-4A0E-8797-221D8928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61773-E12B-40B8-B967-807405BC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52CC-6340-43F3-AD05-CBC7E50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328F5-A38D-4928-8AE6-2C76E75E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74624-223E-4285-B231-05922E5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B5F48-B31A-48EA-8C1D-40F1EB9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E992-69AB-4542-A529-1348C441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32A57-FD68-4372-A886-948AC0D6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B5A66-6509-48C8-9021-31BBB122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31477-4496-4070-BB55-9585D7C2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9A098-BD95-4966-B464-A417F1CB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F6288-BB2C-4C6D-9FBC-C0960216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4B864-EAF4-4E24-B905-40A37031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ADB9-61BF-4AE4-8457-A0E399CEBC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900000" y="3870360"/>
            <a:ext cx="1443240" cy="1778040"/>
          </a:xfrm>
          <a:prstGeom prst="rect">
            <a:avLst/>
          </a:prstGeom>
          <a:ln w="0">
            <a:noFill/>
          </a:ln>
        </p:spPr>
      </p:pic>
      <p:pic>
        <p:nvPicPr>
          <p:cNvPr id="50" name="Obraz 1" descr=""/>
          <p:cNvPicPr/>
          <p:nvPr/>
        </p:nvPicPr>
        <p:blipFill>
          <a:blip r:embed="rId3"/>
          <a:stretch/>
        </p:blipFill>
        <p:spPr>
          <a:xfrm>
            <a:off x="2343240" y="593640"/>
            <a:ext cx="444492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3E5C-235F-4879-A510-922B0C156E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0" descr="JR.JPG"/>
          <p:cNvPicPr/>
          <p:nvPr/>
        </p:nvPicPr>
        <p:blipFill>
          <a:blip r:embed="rId2"/>
          <a:stretch/>
        </p:blipFill>
        <p:spPr>
          <a:xfrm>
            <a:off x="6145200" y="2414520"/>
            <a:ext cx="1968480" cy="1797120"/>
          </a:xfrm>
          <a:prstGeom prst="rect">
            <a:avLst/>
          </a:prstGeom>
          <a:ln w="0">
            <a:noFill/>
          </a:ln>
        </p:spPr>
      </p:pic>
      <p:pic>
        <p:nvPicPr>
          <p:cNvPr id="97" name="Obraz 10" descr="logo.jpg"/>
          <p:cNvPicPr/>
          <p:nvPr/>
        </p:nvPicPr>
        <p:blipFill>
          <a:blip r:embed="rId3"/>
          <a:stretch/>
        </p:blipFill>
        <p:spPr>
          <a:xfrm>
            <a:off x="5940360" y="4221000"/>
            <a:ext cx="2286000" cy="884520"/>
          </a:xfrm>
          <a:prstGeom prst="rect">
            <a:avLst/>
          </a:prstGeom>
          <a:ln w="0">
            <a:noFill/>
          </a:ln>
        </p:spPr>
      </p:pic>
      <p:pic>
        <p:nvPicPr>
          <p:cNvPr id="98" name="Obraz 3" descr=""/>
          <p:cNvPicPr/>
          <p:nvPr/>
        </p:nvPicPr>
        <p:blipFill>
          <a:blip r:embed="rId4"/>
          <a:stretch/>
        </p:blipFill>
        <p:spPr>
          <a:xfrm>
            <a:off x="250920" y="620640"/>
            <a:ext cx="444492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Obraz 4" descr=""/>
          <p:cNvPicPr/>
          <p:nvPr/>
        </p:nvPicPr>
        <p:blipFill>
          <a:blip r:embed="rId5"/>
          <a:stretch/>
        </p:blipFill>
        <p:spPr>
          <a:xfrm>
            <a:off x="1619280" y="2698920"/>
            <a:ext cx="2246400" cy="150156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6"/>
          <p:cNvSpPr/>
          <p:nvPr/>
        </p:nvSpPr>
        <p:spPr>
          <a:xfrm>
            <a:off x="1547640" y="4437000"/>
            <a:ext cx="23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Stanisław Porę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35B2-A5A0-46F8-9F91-0EB56FCFC6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8C93-5313-4C29-A590-3B79FEEA00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609B-1714-456A-8B75-6FC3401F36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6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FB62-381E-40AA-8851-2DA04CC529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dt" idx="17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8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9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517D-5956-4B27-B7D9-AF73AB3CD8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dt" idx="20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21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6CB7-7035-4173-8C20-9D91C430AC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Obraz 10" descr="logo.jpg"/>
          <p:cNvPicPr/>
          <p:nvPr/>
        </p:nvPicPr>
        <p:blipFill>
          <a:blip r:embed="rId2"/>
          <a:stretch/>
        </p:blipFill>
        <p:spPr>
          <a:xfrm>
            <a:off x="8259840" y="4365720"/>
            <a:ext cx="882720" cy="2286000"/>
          </a:xfrm>
          <a:prstGeom prst="rect">
            <a:avLst/>
          </a:prstGeom>
          <a:ln w="0">
            <a:noFill/>
          </a:ln>
        </p:spPr>
      </p:pic>
      <p:sp>
        <p:nvSpPr>
          <p:cNvPr id="377" name="Tytuł 7"/>
          <p:cNvSpPr/>
          <p:nvPr/>
        </p:nvSpPr>
        <p:spPr>
          <a:xfrm rot="5400000">
            <a:off x="6669360" y="2050200"/>
            <a:ext cx="4176720" cy="3078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Kliknij, aby edytować sty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D72C-C7BA-445C-AB33-1E470B93EF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934560" y="1995480"/>
            <a:ext cx="7332840" cy="18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miany w otoczeniu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vs zmiany w elektroenergety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ole tekstowe 1"/>
          <p:cNvSpPr/>
          <p:nvPr/>
        </p:nvSpPr>
        <p:spPr>
          <a:xfrm>
            <a:off x="4356000" y="4292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tanisław Porę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an Rakow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ole tekstowe 4"/>
          <p:cNvSpPr/>
          <p:nvPr/>
        </p:nvSpPr>
        <p:spPr>
          <a:xfrm>
            <a:off x="5651640" y="58723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rszawa, 22.05.2015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ierwszych latach liberalizacji rynku energią ujawniły się zagrożenia dla bezpieczeństwa dostaw, które zmaterializowały się w kilku krajach (Kalifornia, Włoch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2006 roku wprowadzono dyrektywę o bezpieczeństwie dostaw energii i inwestycji energetycznych, na jej podstawie kilka krajów UE wprowadziły płatności moc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ynki hurtowe, powiązane z rynkami finansowymi, spłaszczają ceny energii, osłabiając, a nawet eliminując sygnały dla odbiorców, inwestorów i operatoró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lejne zagrożenia wprowadza bardzo szybki rozwój OZE, zwłaszcza w technologiach niesterowalnych (wiatr i PV), dla ich eliminacji w kilku krajach wprowadzono lub przygotowuje się wprowadzenie rynku mo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Bezpieczeństwo dostaw energ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1321-E880-44BB-8A5B-42676992FD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462D-5257-4DE2-BC88-583B6498B8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Globalna i unijna polityka klimaty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Unijny 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miany technologii wytwarzania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Podstawowe problemy okresu przejści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Zmiany technologii wytwar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3F9B-DF9B-44DB-883C-6748FC4FD6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dukcja GHG ogranicza możliwość funkcjonowania jednostek węglowych i gazow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nijny program opanowania technologii wychwytywania i składowania (CCS) lub przetwarzania (CCU) CO2 praktycznie jest zawieszony, bo tempo zmian celów redukcyjnych nie pozwala na przeprowadzenie normalnego cyklu badawczo-rozwojow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obne problemy mają inne technologie „czystego” wykorzystywania węg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mniej węgiel będzie miał istotny udział jeszcze przez wiele lat, USA planują na 2040 rok 40% udziału węgla w wytwarzaniu energii elektrycznej. Polska i Niemcy pewnie będą miały podobny udzia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Zmiany technologii wytwarzania - O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F091-F91D-480C-A1D1-576BA89B82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wój OZE ma dwa stymulatory rozwoj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dukcja emisji GHG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zrost bezpieczeństwa energetycznego poprzez wykorzystywanie krajowych zasobó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szybszy rozwój notują technologie wiatrowe i PV, mają krótki okres budowy, są mniej czułe na profesjonalizm inwestorów i operatorów, są najbardziej wspierane przez  ogromne środki dotacy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chnologie biomasowe maja porównywalne warunki rozwojowe do PV i wiatru tylko w niektórych krajach, m.in. w Polsce przez kilka lat do 2012 rok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ogół najmniej preferowaną technologią OZE są elektrownie wodne, pomimo, że mając możliwości magazynowania, powinny mieć prioryt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Zmiany technologii wytwarzania – źródła rozprosz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0FBF-0318-4992-A000-7045901B7A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łówne stymulatory rozwoj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blemy z lokalizacja dużych źróde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wój technologiczny powodujący spadek kosztów jednostkow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ość powiązania z lokalnymi magazynami energ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ielu krajach te źródła mają również priorytet dotacyj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obnie jak dla dużych źródeł PV i wiatrowych, podstawową barierą rozwoju jest brak dojrzały technologii magazynowania energii oraz przebudowa sieci dystrybu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ielu lokalizacjach małe elektrownie wodne z piętrzeniem mogą być istotnym elementem lokalnego obszaru bilansowania, konieczne są spójne działania prosumentów i mikroproducentów z operatorami sieciowymi i operatorami ME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F1E0-68CD-4B4E-87CB-FBBB1657E3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Globalna i unijna polityka klimaty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Unijny 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Zmiany technologii wytwarzania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dstawowe problemy okresu przejści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ez stabilnego, ewolucyjnego programu wdrażania rynku, na ogół powstają napięcia, zagrożenia i kryzysy, tworzy się też szara i czarna stref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stety w Unii Europejskiej, pomimo wielu regulacji brak takiego progra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ytuację pogarsza ustanowienie najwyższego priorytetu dla ochrony klimatu bez spójnego programu osiągania założonych celów, poszczególne kraje mają różne możliwości dotacy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ieczne są działania na poziomie UE (np. w ramach tworzenia unii energetycznej) dla szybkiej poprawy sytuacji, bo obecny rynek  kreuje wręcz fałszywe sygnał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blemy budowy rynku konkurencyjne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C949-C4EA-4FEC-9A88-44ED2704D8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sekwencją fałszywych sygnałów rynkowych jest br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tarczających przychodów dla operatorów jednostek wytwórczych, których moc jest niezbędna dla zapewnienia bezpieczeństwa dosta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 ryzyko dla inwestorów jednostek w sterowalnych technologiach, na ogół nie wspieranych dotacyjn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isja Europejska próbuje rozwiązać problem poprzez ulepszenie obecnego modelu rynku, ale bez wycofania dotacji są małe sza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ęść krajów wprowadza rynki mocy lub mechanizmy mocowe oraz kontrakty różnicowe, pomimo pozornych rozbieżności z regulacjami KE, uzyskują jej akceptacj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blemy bezpieczeństwa dosta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E7B6-4C80-4A1D-BD0B-B952EF8494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spójne cele strategiczne dla sektora i regulacje, zmiany technologiczne, wspieranie dotacyjne niedojrzałych technologii wymagają istotnych zmian w modelu zarzadzania systemem energetyczny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e problemy mają systemy zarządzane centralnie, najmniej odporne na szybkie zmiany w otoczeniu i sektorze, Polska ma zarządzanie centralne, m.in. Jest jednym z dwu krajów UE, które nie mają elementów samo-dysponowania czy samo-bilansow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centralizacja i zwiększenie odpowiedzialności  uczestników rynku za fizyczną realizację zawartych umów sprzedaży energii jest warunkiem zapewnienia bezpieczeństwa dostaw w szybko zmieniających się warunk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blemy zarządzania K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577C-7772-45EF-A858-C0621DBDB9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Symbol zastępczy daty 2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stopki 3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ymbol zastępczy numeru slajdu 4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5F09-0121-40E4-B544-56FE944833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ole tekstowe 11"/>
          <p:cNvSpPr/>
          <p:nvPr/>
        </p:nvSpPr>
        <p:spPr>
          <a:xfrm>
            <a:off x="2411280" y="1773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e46c0a"/>
                </a:solidFill>
                <a:latin typeface="Calibri"/>
              </a:rPr>
              <a:t>Dziękujemy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2302-B535-4BB9-A223-669C1D8114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lobalna i unijna polityka klimaty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nijny 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miany technologii wytwarzania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dstawowe problemy okresu przejści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3099-5D98-4F1C-8929-BA163F4AD2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lobalna i unijna polityka klimaty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Unijny 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Zmiany technologii wytwarzania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Podstawowe problemy okresu przejści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980640"/>
            <a:ext cx="8578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wencja Klimatyczna z 1992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gólne zobowiązanie do działań na rzecz ochrony klimatu i niedopuszczenia do wzrostu temperatury na powierzchni Ziemi więcej    niż 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ałe badania zakresu i przyczyn zmian klima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oroczne Konferencje Stron Konwencji (Conference of the Parties – COP) dla oceny sytuacji i podejmowania stosownych działa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55320" indent="-355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OP Kioto 1997 i dalsze dział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ierwsze zobowiązania krajów rozwiniętych do redukcji emisji gazów cieplarnianych (GHG) w 2012 r. o ustalony procent w stosunku do 1990 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ększość krajów dotrzymała zobowiąza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dłużenie zobowiązań Kioto do 2020r. dla części kraj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gotowywane nowe porozumienie o redukcjach po 2020r. na COP w Paryżu w b.r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55320" indent="-355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Globalna polityka klimatycz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21EF-6EDC-42A1-AAA7-8C2BD76DD5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chrona klimatu i środowiska mają istotny wpływ na funkcjonowanie UE od początków jej istni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la zapewnienia uzyskania redukcji emisji GHG wg zobowiązań z Kioto (8%), dyrektywą z 2003 roku wprowadzono od 2005 roku Europejski System Handlu Emisjami (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ada Europejska w marcu 2007 roku przyjęła nową politykę klimatyczną z bardzo ambitnymi celami redukcji GHG (3x20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gulacje wykonawcze na okres do 2020 roku zostały wydane w 2009 roku jako Pakiet Klimatycz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ździerniku 2014 roku, Rada Europejska przyjęła kolejne cele ochrony klimatu do 2030 roku – redukcja GHG o 40%, udział i poprawa efektywności energetycznej o2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Unijna polityka klimatycz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86A2-F053-41CA-ADE7-3164BEC520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oletni okres globalnego rozwoju gospodarczego został przerwany w 2009 roku, spadek rozwoju dotknął wszystkie kraje UE, a niektóre z nich jeszcze nie mogą go przezwyciężyć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yzysowy spadek produkcji znacznie obniżył emisję GHG i doprowadził do spadku cen uprawnień do emisji GHG (EUA) na ETS do poziomu nie stymulującego działań redukcyj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la zmiany tej sytuacji wprowadzono przesuniecie części uprawnień z początku na koniec okresu (backloading), a teraz przygotowywane jest uprawnienie dla KE okresowego wycofywania z rynku takiej ilości uprawnień, żeby wymusić wysokie ceny EU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Kryzys gospodarczy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6BB3-08B5-4D76-AD78-7D800C2797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lska zrealizowała swoje zobowiązania z Kioto z dużym zapas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dukcja emisji GHG jest kosztowna dla polskiej gospodarki z uwagi na wysoki udział węg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lska korzysta z mechanizmów kompensacyjnych w latach 2013 – 2020 i prawdopodobnie będzie korzystać z nich w latach 2021 – 2030 (derogacje CO2 i Fundusz Modernizacyj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zyskanie redukcji GHG w Polsce o 40% w stosunku do 1990 roku będzie wymagać redukcji o około 30% w stosunku do 2005 ro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ieczna będzie istotna zmiana struktury wytwarzania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Sytuacja w Pols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DD9D-12D2-4EC2-8432-BAD35782E0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C517-4871-4C92-9CA0-9684F85F75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Globalna i unijna polityka klimaty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nijny 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Zmiany technologii wytwarzania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Podstawowe problemy okresu przejści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a dyrektywa rynkowa z 2006 roku wymusiła odejście od monopoli w elektroenergetyce i rozpoczęła budowę wspólnego ry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la zwiększenia efektywności już dwukrotnie była zastępowana przez kolejne dyrektywy, w 2003 i 2009 roku, wydawane są rozporządzenia, głównie dla regulacji przepływów granicznych, przygotowywane są kodeksy sieciow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imo tych działań i wyznaczania kolejnych dat, unijny rynek energii nie może nabrać realnego kształtu, w ostatnich latach istotne zakłócenia w budowie unijnego rynku wprowadzają wysokie dotacje do OZ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Rozwój unijnego rynku energ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2823-75D0-4DE1-9E4B-B8498E7644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4:37:53Z</dcterms:created>
  <dc:creator>Stanisław Poręba, Jan Rakowski</dc:creator>
  <dc:description>Wersja 1.0., 15 maja 2015 r.</dc:description>
  <dc:language>en-US</dc:language>
  <cp:lastModifiedBy>Admin</cp:lastModifiedBy>
  <dcterms:modified xsi:type="dcterms:W3CDTF">2015-05-21T20:06:07Z</dcterms:modified>
  <cp:revision>274</cp:revision>
  <dc:subject/>
  <dc:title>Prezentacja dla TEW</dc:title>
</cp:coreProperties>
</file>